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5D26-52FD-4D39-8597-CB461D5EEB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85800" y="1143000"/>
            <a:ext cx="5486400" cy="3086280"/>
          </a:xfrm>
          <a:prstGeom prst="rect">
            <a:avLst/>
          </a:prstGeom>
          <a:ln w="0">
            <a:noFill/>
          </a:ln>
        </p:spPr>
      </p:sp>
      <p:sp>
        <p:nvSpPr>
          <p:cNvPr id="1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B8B1-F470-4933-B622-2C9AD7886A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9"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400" cy="3086280"/>
          </a:xfrm>
          <a:prstGeom prst="rect">
            <a:avLst/>
          </a:prstGeom>
          <a:ln w="0">
            <a:noFill/>
          </a:ln>
        </p:spPr>
      </p:sp>
      <p:sp>
        <p:nvSpPr>
          <p:cNvPr id="2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2351-C5BE-4FF3-A6BE-DB86938CBA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85800" y="1143000"/>
            <a:ext cx="5486400" cy="3086280"/>
          </a:xfrm>
          <a:prstGeom prst="rect">
            <a:avLst/>
          </a:prstGeom>
          <a:ln w="0">
            <a:noFill/>
          </a:ln>
        </p:spPr>
      </p:sp>
      <p:sp>
        <p:nvSpPr>
          <p:cNvPr id="2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6D0D-BD40-4FC3-A1BC-CB2AEC5467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685800" y="1143000"/>
            <a:ext cx="548640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CF53-20A0-4541-ADAB-DF18994A80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4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51A8-CE38-4B3B-ACD5-82C3DE410D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85800" y="1143000"/>
            <a:ext cx="5486400" cy="3086280"/>
          </a:xfrm>
          <a:prstGeom prst="rect">
            <a:avLst/>
          </a:prstGeom>
          <a:ln w="0">
            <a:noFill/>
          </a:ln>
        </p:spPr>
      </p:sp>
      <p:sp>
        <p:nvSpPr>
          <p:cNvPr id="2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5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5FBF-5F49-4EEF-86BF-26FEAF14EB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85800" y="1143000"/>
            <a:ext cx="548640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5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9883-510F-43AF-899A-910102353E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400" cy="3086280"/>
          </a:xfrm>
          <a:prstGeom prst="rect">
            <a:avLst/>
          </a:prstGeom>
          <a:ln w="0">
            <a:noFill/>
          </a:ln>
        </p:spPr>
      </p:sp>
      <p:sp>
        <p:nvSpPr>
          <p:cNvPr id="2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5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F4D1-FECB-44BA-A997-5BF097E2CC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685800" y="1143000"/>
            <a:ext cx="5486400" cy="308628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6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6662-5B11-4A27-A1AC-8FF16D49E0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40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6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92DD-9477-44AD-A67D-49210ABAB3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685800" y="1143000"/>
            <a:ext cx="5486400" cy="3086280"/>
          </a:xfrm>
          <a:prstGeom prst="rect">
            <a:avLst/>
          </a:prstGeom>
          <a:ln w="0">
            <a:noFill/>
          </a:ln>
        </p:spPr>
      </p:sp>
      <p:sp>
        <p:nvSpPr>
          <p:cNvPr id="2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7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4F6A-032C-4F30-A3CD-7902FA061A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685800" y="1143000"/>
            <a:ext cx="54864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0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7516-FE1C-412A-A406-F9701FA8A4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gardless of the patient’s age or the type, condition, or progression of their dise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7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A109-7377-44F3-B771-D9495BACCC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685800" y="1143000"/>
            <a:ext cx="548640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7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FA10-54C4-477B-ACC6-0663990770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685800" y="1143000"/>
            <a:ext cx="54864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8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9EF3-7407-4C61-9F87-9684F0D84F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8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5E0B-16E7-4584-BFAD-C5610863D3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85800" y="1143000"/>
            <a:ext cx="5486400" cy="3086280"/>
          </a:xfrm>
          <a:prstGeom prst="rect">
            <a:avLst/>
          </a:prstGeom>
          <a:ln w="0">
            <a:noFill/>
          </a:ln>
        </p:spPr>
      </p:sp>
      <p:sp>
        <p:nvSpPr>
          <p:cNvPr id="2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9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8386-7697-4D2A-8972-261F817958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9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0477-207B-49FD-A3AD-C5AC85E72D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685800" y="1143000"/>
            <a:ext cx="54864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0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4D7D-5DA3-43E7-AD89-578397BCB4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685800" y="1143000"/>
            <a:ext cx="5486400" cy="3086280"/>
          </a:xfrm>
          <a:prstGeom prst="rect">
            <a:avLst/>
          </a:prstGeom>
          <a:ln w="0">
            <a:noFill/>
          </a:ln>
        </p:spPr>
      </p:sp>
      <p:sp>
        <p:nvSpPr>
          <p:cNvPr id="2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1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0EE8-7D5C-42B3-84F6-372CCE7345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685800" y="1143000"/>
            <a:ext cx="5486400" cy="3086280"/>
          </a:xfrm>
          <a:prstGeom prst="rect">
            <a:avLst/>
          </a:prstGeom>
          <a:ln w="0">
            <a:noFill/>
          </a:ln>
        </p:spPr>
      </p:sp>
      <p:sp>
        <p:nvSpPr>
          <p:cNvPr id="2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1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9485-8560-4FC9-9CD7-A6E4F7C6BC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685800" y="1143000"/>
            <a:ext cx="548640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1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7A0F-6560-48AF-A134-231D62AA7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400" cy="3086280"/>
          </a:xfrm>
          <a:prstGeom prst="rect">
            <a:avLst/>
          </a:prstGeom>
          <a:ln w="0">
            <a:noFill/>
          </a:ln>
        </p:spPr>
      </p:sp>
      <p:sp>
        <p:nvSpPr>
          <p:cNvPr id="2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DB4E-4B8E-492A-8D74-F924B6A5EC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85800" y="1143000"/>
            <a:ext cx="5486400" cy="3086280"/>
          </a:xfrm>
          <a:prstGeom prst="rect">
            <a:avLst/>
          </a:prstGeom>
          <a:ln w="0">
            <a:noFill/>
          </a:ln>
        </p:spPr>
      </p:sp>
      <p:sp>
        <p:nvSpPr>
          <p:cNvPr id="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1434-FC80-420A-919B-FA77251A49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1143000"/>
            <a:ext cx="54864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DB4D-D664-40F9-B88E-E864EEA43B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27862-2C98-4B16-A384-9BDD6D301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C431-32AF-4DA1-A150-CE037161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741AF-58BA-4149-B4C5-DD142988D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C8BB8-E2B3-469E-B765-1C5467968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E8A77-D4FC-477D-B36D-92382639B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91B30-6119-40A8-A31F-FC678E910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D8B31-3E50-4D4A-AC46-1ABC15008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062E4-6E72-4C4D-A439-16FF3BB4A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D0E72-5A86-4DEC-804A-A27175091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73825-9BD7-4DEB-9FFA-35B5E7A03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B3AF-B2A6-4CDA-A215-C9EE95B5B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D93AD-6D23-406C-B98D-CE05688DA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962CF-EEC4-433D-825B-DA726A50C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6D604-8112-4B9E-B875-648E1238B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8B97B-96F4-4F09-BB39-5B178475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A29E9-C536-43B6-A191-AC694DA97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3876F-92B3-4DE4-81D4-6F736522F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E2450-AA30-4F74-808A-779C24114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622B-B658-434C-A531-6B9FE9662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EDC41-41F0-4F03-AD66-0DD6A0F9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C91C8-4C7D-4AA6-B839-543B14BB5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D6C75-2ABB-4733-9AED-6BAD6AE4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1960A-5220-49F6-907F-F1FF1E27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1121-DC8A-4DA6-B2FB-1448864E9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7591-C04C-48F4-880B-50234E214E8B}"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BAB9-82BF-493D-AB84-60C8F9C605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F213-795B-44A5-AD96-B70B2E0ABA11}"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5BE3-8D98-41D7-B185-689846B6E6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ff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ff3399"/>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1" descr=""/>
          <p:cNvPicPr/>
          <p:nvPr/>
        </p:nvPicPr>
        <p:blipFill>
          <a:blip r:embed="rId1"/>
          <a:stretch/>
        </p:blipFill>
        <p:spPr>
          <a:xfrm>
            <a:off x="7596360" y="690480"/>
            <a:ext cx="3773160" cy="5792760"/>
          </a:xfrm>
          <a:prstGeom prst="rect">
            <a:avLst/>
          </a:prstGeom>
          <a:ln w="0">
            <a:noFill/>
          </a:ln>
        </p:spPr>
      </p:pic>
      <p:sp>
        <p:nvSpPr>
          <p:cNvPr id="92" name="Rectangle 6"/>
          <p:cNvSpPr/>
          <p:nvPr/>
        </p:nvSpPr>
        <p:spPr>
          <a:xfrm>
            <a:off x="1038240" y="1959120"/>
            <a:ext cx="7888320" cy="28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Atopic Eczem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rPr>
              <a:t>Patient Education in A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Sabeera Begu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 Paediatric Dermatologist</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Kuala Lump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2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4816-7287-41CC-835A-4445BA1EBA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eatment of A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28" name="Picture 4" descr=""/>
          <p:cNvPicPr/>
          <p:nvPr/>
        </p:nvPicPr>
        <p:blipFill>
          <a:blip r:embed="rId1"/>
          <a:stretch/>
        </p:blipFill>
        <p:spPr>
          <a:xfrm>
            <a:off x="2028960" y="1136520"/>
            <a:ext cx="8070840" cy="5597640"/>
          </a:xfrm>
          <a:prstGeom prst="rect">
            <a:avLst/>
          </a:prstGeom>
          <a:ln w="0">
            <a:noFill/>
          </a:ln>
        </p:spPr>
      </p:pic>
      <p:sp>
        <p:nvSpPr>
          <p:cNvPr id="129" name="Oval 5"/>
          <p:cNvSpPr/>
          <p:nvPr/>
        </p:nvSpPr>
        <p:spPr>
          <a:xfrm>
            <a:off x="1477800" y="888840"/>
            <a:ext cx="3857760" cy="216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6"/>
          <p:cNvSpPr/>
          <p:nvPr/>
        </p:nvSpPr>
        <p:spPr>
          <a:xfrm>
            <a:off x="3368520" y="4603680"/>
            <a:ext cx="6731280" cy="1117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Must includes patient preferences and shared decision making</a:t>
            </a: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Integrates patient experience into the care process: </a:t>
            </a:r>
            <a:endParaRPr b="0" lang="en-US" sz="3200" spc="-1" strike="noStrike">
              <a:solidFill>
                <a:srgbClr val="000000"/>
              </a:solidFill>
              <a:latin typeface="Arial"/>
            </a:endParaRPr>
          </a:p>
          <a:p>
            <a:pPr lvl="1" marL="538200" indent="-2746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Experience includes the patient’s and parent’s knowledge, beliefs, motivations, failures and, the effect of the familial, social and professional context </a:t>
            </a:r>
            <a:endParaRPr b="0" lang="en-US" sz="2800" spc="-1" strike="noStrike">
              <a:solidFill>
                <a:srgbClr val="000000"/>
              </a:solidFill>
              <a:latin typeface="Arial"/>
            </a:endParaRPr>
          </a:p>
          <a:p>
            <a:pPr lvl="1" marL="538200" indent="-2746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3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BF1F-DC19-4EB3-9309-CD8570A689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hared Decision Making</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Setting targets together with patients</a:t>
            </a: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000000"/>
                </a:solidFill>
                <a:latin typeface="Arial"/>
                <a:ea typeface="Arial"/>
              </a:rPr>
              <a:t> </a:t>
            </a: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Discussion on:</a:t>
            </a:r>
            <a:endParaRPr b="0" lang="en-US" sz="3200" spc="-1" strike="noStrike">
              <a:solidFill>
                <a:srgbClr val="000000"/>
              </a:solidFill>
              <a:latin typeface="Arial"/>
            </a:endParaRPr>
          </a:p>
          <a:p>
            <a:pPr lvl="1" marL="53820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symptoms that bother the patient</a:t>
            </a:r>
            <a:endParaRPr b="0" lang="en-US" sz="2800" spc="-1" strike="noStrike">
              <a:solidFill>
                <a:srgbClr val="000000"/>
              </a:solidFill>
              <a:latin typeface="Arial"/>
            </a:endParaRPr>
          </a:p>
          <a:p>
            <a:pPr lvl="1" marL="53820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functional limitations caused by the condition or flare </a:t>
            </a:r>
            <a:endParaRPr b="0" lang="en-US" sz="2800" spc="-1" strike="noStrike">
              <a:solidFill>
                <a:srgbClr val="000000"/>
              </a:solidFill>
              <a:latin typeface="Arial"/>
            </a:endParaRPr>
          </a:p>
          <a:p>
            <a:pPr lvl="1" marL="53820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deal stable state that is achievable, both in short- and long-term treatments</a:t>
            </a:r>
            <a:endParaRPr b="0" lang="en-US" sz="2800" spc="-1" strike="noStrike">
              <a:solidFill>
                <a:srgbClr val="000000"/>
              </a:solidFill>
              <a:latin typeface="Arial"/>
            </a:endParaRPr>
          </a:p>
          <a:p>
            <a:pPr lvl="1" marL="53820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3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FA5C-3C37-45B2-8DE7-E76E46419E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get Setting</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llow-up should be scheduled and timed according to the condition and control. </a:t>
            </a:r>
            <a:endParaRPr b="0" lang="en-US" sz="3200" spc="-1" strike="noStrike">
              <a:solidFill>
                <a:srgbClr val="000000"/>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action plan is useful for both stable and flare management.</a:t>
            </a:r>
            <a:endParaRPr b="0" lang="en-US" sz="3200" spc="-1" strike="noStrike">
              <a:solidFill>
                <a:srgbClr val="000000"/>
              </a:solidFill>
              <a:latin typeface="Arial"/>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given as a guide to the use of pharmacological agents dispensed.</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4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D684-E548-4400-930C-2C51C89A2F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ronic Management</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000000"/>
                </a:solidFill>
                <a:latin typeface="Arial"/>
              </a:rPr>
              <a:t>KNOWLEDGE </a:t>
            </a:r>
            <a:endParaRPr b="0" lang="en-US" sz="32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of their own conditions </a:t>
            </a:r>
            <a:endParaRPr b="0" lang="en-US" sz="28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the factors affecting control  </a:t>
            </a:r>
            <a:endParaRPr b="0" lang="en-US" sz="28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their individualised treatment targets must ideally be understood and</a:t>
            </a:r>
            <a:endParaRPr b="0" lang="en-US" sz="28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mastered by the patients or their caregivers</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4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20F2-9AB7-458D-BA77-83CEF17FB9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mpowerment </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A personal written action plan:</a:t>
            </a:r>
            <a:endParaRPr b="0" lang="en-US" sz="32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helps the patient and parents reduce the gap between the prescription and the application</a:t>
            </a:r>
            <a:endParaRPr b="0" lang="en-US" sz="28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reminds them of the therapeutic objectives</a:t>
            </a:r>
            <a:endParaRPr b="0" lang="en-US" sz="2800" spc="-1" strike="noStrike">
              <a:solidFill>
                <a:srgbClr val="000000"/>
              </a:solidFill>
              <a:latin typeface="Arial"/>
            </a:endParaRPr>
          </a:p>
          <a:p>
            <a:pPr lvl="1" marL="627120" indent="-36360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helps them to better adhere to the treatment </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4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1E97-EA9A-40B1-8039-AA0E8805C2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ritten Action Plan (WAP)</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5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12DB-4722-4B55-A4CD-490C34211F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Patient Empowerment</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54" name="Picture 2" descr=""/>
          <p:cNvPicPr/>
          <p:nvPr/>
        </p:nvPicPr>
        <p:blipFill>
          <a:blip r:embed="rId1"/>
          <a:stretch/>
        </p:blipFill>
        <p:spPr>
          <a:xfrm>
            <a:off x="6675480" y="147600"/>
            <a:ext cx="4522680" cy="6573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8080" y="1825560"/>
            <a:ext cx="10515600" cy="6415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Daily skin care</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5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802B-6D3F-4CBD-8627-A40F8EB282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ritten Eczema Action Plan (WAP)</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59" name="Picture 9" descr=""/>
          <p:cNvPicPr/>
          <p:nvPr/>
        </p:nvPicPr>
        <p:blipFill>
          <a:blip r:embed="rId1"/>
          <a:stretch/>
        </p:blipFill>
        <p:spPr>
          <a:xfrm>
            <a:off x="1165320" y="2790720"/>
            <a:ext cx="9753480" cy="260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8080" y="1825560"/>
            <a:ext cx="10515600" cy="6415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Eczema worsening</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6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28CE-73B1-4114-BDCD-2DF89C6B19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6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ritten Eczema Action Plan (WAP)</a:t>
                      </a:r>
                      <a:r>
                        <a:rPr b="1" lang="en-US"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64" name="Picture 4" descr=""/>
          <p:cNvPicPr/>
          <p:nvPr/>
        </p:nvPicPr>
        <p:blipFill>
          <a:blip r:embed="rId1"/>
          <a:stretch/>
        </p:blipFill>
        <p:spPr>
          <a:xfrm>
            <a:off x="1611360" y="2436840"/>
            <a:ext cx="8959680" cy="415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8080" y="1825560"/>
            <a:ext cx="10515600" cy="6415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Eczema uncontrolled</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6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2488-BE37-483B-89CF-F02739A708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6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ritten Eczema Action Plan (WAP)</a:t>
                      </a:r>
                      <a:r>
                        <a:rPr b="1" lang="en-US" sz="2000" spc="-1" strike="noStrike">
                          <a:solidFill>
                            <a:srgbClr val="000000"/>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69" name="Picture 5" descr=""/>
          <p:cNvPicPr/>
          <p:nvPr/>
        </p:nvPicPr>
        <p:blipFill>
          <a:blip r:embed="rId1"/>
          <a:stretch/>
        </p:blipFill>
        <p:spPr>
          <a:xfrm>
            <a:off x="2082960" y="2422440"/>
            <a:ext cx="8013600" cy="422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o empower patients and parents to improve their competency in managing AE, and thus improve the outcomes of the disease</a:t>
            </a:r>
            <a:endParaRPr b="0" lang="en-US" sz="3200" spc="-1" strike="noStrike">
              <a:solidFill>
                <a:srgbClr val="000000"/>
              </a:solidFill>
              <a:latin typeface="Arial"/>
            </a:endParaRPr>
          </a:p>
        </p:txBody>
      </p:sp>
      <p:sp>
        <p:nvSpPr>
          <p:cNvPr id="9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9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468A-3540-481C-9F53-365AC51E9B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9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Learning Objective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Should be offered to all patients and families with AE</a:t>
            </a:r>
            <a:endParaRPr b="0" lang="en-US" sz="32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Should be offered to patients and parents with a history of therapeutic failures, with or without efficient and credible treatment and, to families who feel they have poor social support </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7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A248-F242-4C21-8FEC-87FE981C9E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3" name=""/>
          <p:cNvGraphicFramePr/>
          <p:nvPr/>
        </p:nvGraphicFramePr>
        <p:xfrm>
          <a:off x="31680" y="25560"/>
          <a:ext cx="12060360" cy="1431720"/>
        </p:xfrm>
        <a:graphic>
          <a:graphicData uri="http://schemas.openxmlformats.org/drawingml/2006/table">
            <a:tbl>
              <a:tblPr/>
              <a:tblGrid>
                <a:gridCol w="12060360"/>
              </a:tblGrid>
              <a:tr h="1432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O should benefit from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ed toward parents of children under 8 years</a:t>
            </a:r>
            <a:endParaRPr b="0" lang="en-US" sz="32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ards children themselves from 12 to 18 years</a:t>
            </a:r>
            <a:endParaRPr b="0" lang="en-US" sz="32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organised on a one-to-one basis or in groups</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7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579E-A242-4A98-ABE6-C021FAA93E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7" name=""/>
          <p:cNvGraphicFramePr/>
          <p:nvPr/>
        </p:nvGraphicFramePr>
        <p:xfrm>
          <a:off x="31680" y="25560"/>
          <a:ext cx="12060360" cy="1431720"/>
        </p:xfrm>
        <a:graphic>
          <a:graphicData uri="http://schemas.openxmlformats.org/drawingml/2006/table">
            <a:tbl>
              <a:tblPr/>
              <a:tblGrid>
                <a:gridCol w="12060360"/>
              </a:tblGrid>
              <a:tr h="1432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O should benefit from </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r>
                        <a:rPr b="1" lang="en-US"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of patient education may differ between general practitioners and specialists, but explanation of the basics and principles of AE treatment, e.g. the prescribed TCS potency or how to phase out AE treatment, should be emphasised. </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8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91D2-829F-4963-8BC6-CAC94E4A8B5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1"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r>
                        <a:rPr b="1" lang="en-US" sz="2000" spc="-1" strike="noStrike">
                          <a:solidFill>
                            <a:srgbClr val="ffffff"/>
                          </a:solidFill>
                          <a:latin typeface="Arial"/>
                        </a:rPr>
                        <a:t>-5</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rly evaluate parental management skills which provides an important opportunity for the clinician to reinforce and improve these skills</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8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56B0-0FEE-4A3A-B845-9F1FEB88A6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r>
                        <a:rPr b="1" lang="en-US" sz="2000" spc="-1" strike="noStrike">
                          <a:solidFill>
                            <a:srgbClr val="ffffff"/>
                          </a:solidFill>
                          <a:latin typeface="Arial"/>
                        </a:rPr>
                        <a:t>-6</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8080" y="1825200"/>
            <a:ext cx="10515600" cy="5589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understanding of treatment regimens</a:t>
            </a:r>
            <a:endParaRPr b="0" lang="en-US" sz="3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ccurate perception of the risks and benefits of medications</a:t>
            </a:r>
            <a:endParaRPr b="0" lang="en-US" sz="3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ly adjusting treatment according to eczema severity</a:t>
            </a:r>
            <a:endParaRPr b="0" lang="en-US" sz="3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opical medications to the correct anatomic locations</a:t>
            </a:r>
            <a:endParaRPr b="0" lang="en-US" sz="3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caregiver confidence and comfort treating children’s eczema </a:t>
            </a:r>
            <a:endParaRPr b="0" lang="en-US" sz="3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caregiver anxiety related to managing the condition at home</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8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A803-025A-4038-81CC-43A99F6651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nefits of WAP</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4BC3-EF79-42D8-A141-667BB32CB7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91"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Take Home Messag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92" name="Picture 5" descr=""/>
          <p:cNvPicPr/>
          <p:nvPr/>
        </p:nvPicPr>
        <p:blipFill>
          <a:blip r:embed="rId1"/>
          <a:stretch/>
        </p:blipFill>
        <p:spPr>
          <a:xfrm>
            <a:off x="550800" y="2592360"/>
            <a:ext cx="11128320" cy="167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86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19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Atopic Eczema</a:t>
            </a:r>
            <a:endParaRPr b="0" lang="en-US" sz="1200" spc="-1" strike="noStrike">
              <a:solidFill>
                <a:srgbClr val="000000"/>
              </a:solidFill>
              <a:latin typeface="Calibri"/>
            </a:endParaRPr>
          </a:p>
        </p:txBody>
      </p:sp>
      <p:sp>
        <p:nvSpPr>
          <p:cNvPr id="19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9D32-4A68-4D1F-A50C-8E675A9846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AE is a common, chronic pruritic inflammatory skin disease with relapsing and remitting course.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reatment consists of topical therapy with emollients and topical corticosteroids (TCS) and, requiring lifestyle adjustments/modifications.</a:t>
            </a:r>
            <a:endParaRPr b="0" lang="en-US" sz="3200" spc="-1" strike="noStrike">
              <a:solidFill>
                <a:srgbClr val="000000"/>
              </a:solidFill>
              <a:latin typeface="Arial"/>
            </a:endParaRPr>
          </a:p>
        </p:txBody>
      </p:sp>
      <p:sp>
        <p:nvSpPr>
          <p:cNvPr id="9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9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2A35-D48C-474A-9754-AE68699646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Introductio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8080" y="1825200"/>
            <a:ext cx="10515600" cy="4351320"/>
          </a:xfrm>
          <a:prstGeom prst="rect">
            <a:avLst/>
          </a:prstGeom>
          <a:noFill/>
          <a:ln w="0">
            <a:noFill/>
          </a:ln>
        </p:spPr>
        <p:txBody>
          <a:bodyPr anchor="t">
            <a:normAutofit fontScale="95000"/>
          </a:bodyPr>
          <a:p>
            <a:pPr marL="217080" indent="-217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Management skills are essential for successful treatment, but the complexity and time-consuming nature of treatment can be problematic for families. </a:t>
            </a:r>
            <a:endParaRPr b="0" lang="en-US" sz="3200" spc="-1" strike="noStrike">
              <a:solidFill>
                <a:srgbClr val="000000"/>
              </a:solidFill>
              <a:latin typeface="Arial"/>
            </a:endParaRPr>
          </a:p>
          <a:p>
            <a:pPr marL="217080" indent="-217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7080" indent="-217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or paediatric patients and their caregivers, adaptive management is challenging, resulting in adherence rates as low as 32% to 40%. </a:t>
            </a:r>
            <a:r>
              <a:rPr b="0" lang="en-MY" sz="3200" spc="-1" strike="noStrike" baseline="30000">
                <a:solidFill>
                  <a:srgbClr val="000000"/>
                </a:solidFill>
                <a:latin typeface="Arial"/>
                <a:ea typeface="Arial"/>
              </a:rPr>
              <a:t>Krejci-Manwaring J, 2007</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17080" indent="-217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7080" indent="-217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    </a:t>
            </a:r>
            <a:r>
              <a:rPr b="0" lang="en-MY" sz="1400" spc="-1" strike="noStrike">
                <a:solidFill>
                  <a:srgbClr val="000000"/>
                </a:solidFill>
                <a:latin typeface="Arial"/>
                <a:ea typeface="Arial"/>
              </a:rPr>
              <a:t>Krejci-Manwaring J, et al. J Am Acad Dermatol. 2007 Feb;56(2):211-6</a:t>
            </a:r>
            <a:endParaRPr b="0" lang="en-US" sz="1400" spc="-1" strike="noStrike">
              <a:solidFill>
                <a:srgbClr val="000000"/>
              </a:solidFill>
              <a:latin typeface="Arial"/>
            </a:endParaRPr>
          </a:p>
        </p:txBody>
      </p:sp>
      <p:sp>
        <p:nvSpPr>
          <p:cNvPr id="102"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0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CB98-DB17-45BA-98DF-9B325C279C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Introduction</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 common pitfalls in chronic eczema management are: </a:t>
            </a:r>
            <a:endParaRPr b="0" lang="en-US" sz="3200" spc="-1" strike="noStrike">
              <a:solidFill>
                <a:srgbClr val="000000"/>
              </a:solidFill>
              <a:latin typeface="Arial"/>
            </a:endParaRPr>
          </a:p>
          <a:p>
            <a:pPr lvl="1" marL="538200" indent="-2746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nsufficient emphasis on chronic care</a:t>
            </a:r>
            <a:endParaRPr b="0" lang="en-US" sz="2800" spc="-1" strike="noStrike">
              <a:solidFill>
                <a:srgbClr val="000000"/>
              </a:solidFill>
              <a:latin typeface="Arial"/>
            </a:endParaRPr>
          </a:p>
          <a:p>
            <a:pPr lvl="1" marL="538200" indent="-2746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lacking patient empowerment </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Acute management of eczema often targets only symptomatic inflammation but neglects the care needed to restore the loss of the epidermal barrier.</a:t>
            </a:r>
            <a:endParaRPr b="0" lang="en-US" sz="3200" spc="-1" strike="noStrike">
              <a:solidFill>
                <a:srgbClr val="000000"/>
              </a:solidFill>
              <a:latin typeface="Arial"/>
            </a:endParaRPr>
          </a:p>
        </p:txBody>
      </p:sp>
      <p:sp>
        <p:nvSpPr>
          <p:cNvPr id="10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0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6172-79E3-4F42-B2B0-D96565DC03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itfalls in Management of AE </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8080" y="1825200"/>
            <a:ext cx="10515600" cy="435132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Is an important part of management</a:t>
            </a: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Must be patient-centered</a:t>
            </a: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3200" spc="-1" strike="noStrike">
                <a:solidFill>
                  <a:srgbClr val="ff0000"/>
                </a:solidFill>
                <a:latin typeface="Arial"/>
                <a:ea typeface="Arial"/>
              </a:rPr>
              <a:t>To empower patients </a:t>
            </a:r>
            <a:endParaRPr b="0" lang="en-US" sz="3200" spc="-1" strike="noStrike">
              <a:solidFill>
                <a:srgbClr val="000000"/>
              </a:solidFill>
              <a:latin typeface="Arial"/>
            </a:endParaRPr>
          </a:p>
        </p:txBody>
      </p:sp>
      <p:sp>
        <p:nvSpPr>
          <p:cNvPr id="11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1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987B-F7EF-4373-81CF-33A648A20E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elps patients to acquire or maintain the skills they need to manage their life in the best possible way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elps patients and their families understand and manage the disease and its treatment together to maintain or improve QoL. </a:t>
            </a:r>
            <a:endParaRPr b="0" lang="en-US" sz="3200" spc="-1" strike="noStrike">
              <a:solidFill>
                <a:srgbClr val="000000"/>
              </a:solidFill>
              <a:latin typeface="Arial"/>
            </a:endParaRPr>
          </a:p>
        </p:txBody>
      </p:sp>
      <p:sp>
        <p:nvSpPr>
          <p:cNvPr id="11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1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257D-CF94-48B6-9A97-A6123FFC71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r>
                        <a:rPr b="1" lang="en-US"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Patient education should be integrated into the care process because:</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opical treatment regimens are often complex</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patients and their families are directly responsible for applying and adapting them to the daily condition of the disease</a:t>
            </a:r>
            <a:endParaRPr b="0" lang="en-US" sz="2800" spc="-1" strike="noStrike">
              <a:solidFill>
                <a:srgbClr val="000000"/>
              </a:solidFill>
              <a:latin typeface="Arial"/>
            </a:endParaRPr>
          </a:p>
        </p:txBody>
      </p:sp>
      <p:sp>
        <p:nvSpPr>
          <p:cNvPr id="1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1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B9C9-DD73-4938-9D7E-92F7BFDA1C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r>
                        <a:rPr b="1" lang="en-US" sz="2000" spc="-1" strike="noStrike">
                          <a:solidFill>
                            <a:srgbClr val="ffffff"/>
                          </a:solidFill>
                          <a:latin typeface="Arial"/>
                        </a:rPr>
                        <a:t>-3</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In AE includes:</a:t>
            </a:r>
            <a:endParaRPr b="0" lang="en-US" sz="3200" spc="-1" strike="noStrike">
              <a:solidFill>
                <a:srgbClr val="000000"/>
              </a:solidFill>
              <a:latin typeface="Arial"/>
            </a:endParaRPr>
          </a:p>
          <a:p>
            <a:pPr lvl="1" marL="777960" indent="-51444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nvolving the patients in the identification of triggers</a:t>
            </a:r>
            <a:endParaRPr b="0" lang="en-US" sz="2800" spc="-1" strike="noStrike">
              <a:solidFill>
                <a:srgbClr val="000000"/>
              </a:solidFill>
              <a:latin typeface="Arial"/>
            </a:endParaRPr>
          </a:p>
          <a:p>
            <a:pPr lvl="1" marL="777960" indent="-51444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arget setting </a:t>
            </a:r>
            <a:endParaRPr b="0" lang="en-US" sz="2800" spc="-1" strike="noStrike">
              <a:solidFill>
                <a:srgbClr val="000000"/>
              </a:solidFill>
              <a:latin typeface="Arial"/>
            </a:endParaRPr>
          </a:p>
          <a:p>
            <a:pPr lvl="1" marL="777960" indent="-51444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chronic management </a:t>
            </a:r>
            <a:endParaRPr b="0" lang="en-US" sz="2800" spc="-1" strike="noStrike">
              <a:solidFill>
                <a:srgbClr val="000000"/>
              </a:solidFill>
              <a:latin typeface="Arial"/>
            </a:endParaRPr>
          </a:p>
          <a:p>
            <a:pPr lvl="1" marL="777960" indent="-51444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patient empowerment </a:t>
            </a:r>
            <a:endParaRPr b="0" lang="en-US" sz="2800" spc="-1" strike="noStrike">
              <a:solidFill>
                <a:srgbClr val="000000"/>
              </a:solidFill>
              <a:latin typeface="Arial"/>
            </a:endParaRPr>
          </a:p>
        </p:txBody>
      </p:sp>
      <p:sp>
        <p:nvSpPr>
          <p:cNvPr id="122"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2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7D0A-0F04-4B7A-94E8-FCE9F90DBD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tient Education</a:t>
                      </a:r>
                      <a:r>
                        <a:rPr b="1" lang="en-US" sz="2000" spc="-1" strike="noStrike">
                          <a:solidFill>
                            <a:srgbClr val="ffffff"/>
                          </a:solidFill>
                          <a:latin typeface="Arial"/>
                        </a:rPr>
                        <a:t>-4</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3:30:34Z</dcterms:created>
  <dc:creator>Norasyikin A Wahab</dc:creator>
  <dc:description/>
  <dc:language>en-US</dc:language>
  <cp:lastModifiedBy>Dr. Mohd. Aminuddin</cp:lastModifiedBy>
  <dcterms:modified xsi:type="dcterms:W3CDTF">2019-03-06T03:48:42Z</dcterms:modified>
  <cp:revision>149</cp:revision>
  <dc:subject/>
  <dc:title>PowerPoint Presentation</dc:title>
</cp:coreProperties>
</file>