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404F-FA54-46D9-B8C7-C632F5D04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7A3-4AB0-404D-8129-B770F44AC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233-B50B-47CA-8D88-1AE15B5D8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9DB9-D683-4002-88E6-FBFB2066F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E87C-2BA4-4861-8A94-7696F2FEE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6AB4-0218-4D45-98FE-8DA5F4F4D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FF7-9C79-461B-A75C-068539286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61F-AEA1-4AFB-A883-D34472B72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93E8-4A29-43BF-A7ED-F4DCE75C0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485-42C7-4899-A755-BB3B01C64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1A7-70C4-4458-BF1B-6D02CC697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4C3D-9191-475E-A45B-0C2D93821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D61E-369F-47BE-B396-931EFDA10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7F6-DC80-410E-9829-A6E3D7E91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256-19BE-423B-B8E4-1A44F9DD0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16EE-4B1B-4FDF-9847-06181F7C1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8AA1-03F1-4904-9594-5E7636572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418-69A7-480C-B422-9C4918D4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7B3-06FC-4D50-AAA5-A87C9ABD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44E-7E71-4371-A2AF-5E3B54FC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AA7-9E32-4E34-8EAD-F1451659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09F8-0F3A-4458-B8F3-A7A9E02F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C3F-7481-4D5F-A3C3-3A751F0E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FA5-5AD5-4FC1-9FF7-78CC127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0BD0-B00C-4ABC-8184-0E533CB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C0A-F3B7-40BB-B4B3-AF4A15E7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9AFD-4DBC-4C2F-B04C-16D18F32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669C-DCF1-47C4-8447-01B2AFF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C7D-68BA-4676-B883-08D1D9A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514D-E205-4B2B-9742-EE1262A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86C-B2AB-4759-8E04-E24CC1D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A8CF-113F-44C7-97C1-DCEACCEB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6561-9DC7-4AE0-AFDD-2173B1A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1466-03BA-4278-9104-8B43B71D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F1D-F885-4369-B27E-466AEDC6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FFC-DFED-4D92-AED2-51A96713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EF7-248E-4DEC-ABDE-3D0397E6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865-3DF9-41E3-BD61-D83C95F7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452-1937-4324-82EF-9BF4FD4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6BB-C702-44A4-B83D-62BE3D35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F84-8ACB-46A8-9812-ECBB843E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C87-C590-4C46-BF22-CBC310F24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2F96-BD67-4AD1-999F-4D9FABE35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CEDB-C909-472C-84D5-A10EABE30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8D2-11E6-43A8-BE64-8E4B5208A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596360" y="690480"/>
            <a:ext cx="3773160" cy="5792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189080" y="1959120"/>
            <a:ext cx="788832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Atopic Ecz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nosis, Severity Assessment and Referral Criteria of Atopic Eczema (A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Tarita Ta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r &amp; Consultant Dermatolog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i Teknologi M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iti Shafiatun Moh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inik Kesihatan Che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Wong Ping F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Klinik Kesihatan Cheras Ba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1274400"/>
            <a:ext cx="1051560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oring tools most extensively validated, mainly used for research purpo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ORAD, EASI, SASSAD and POE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-oriented SCORAD (PO-SCORAD) - a simplified version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relates well with SCORAD index and POEM (r≥0.7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clinical purposes, this CPG advocates the use of IGA to assess severity of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. Schmitt J, et al. J Allergy Clin Immunol. 2007;120(6):1389-13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. Coutanceau C, et al. Dermatology. 2014;229(3):248-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6694-DD66-4E8F-9CE9-9C76F8299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verity Assessment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BA00-BBFE-467E-B3E3-839EA1AB4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or’s Global Assessment (IGA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64000" y="1297080"/>
            <a:ext cx="6705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8080" y="1436400"/>
            <a:ext cx="10515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ality of Life (QoL) assessment is important in the     management of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ost commonly validated tools used are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matology Life Quality Index (DLQI) (refer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endix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ildren’s Dermatology Life Quality Index (CDLQI) (refer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endix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fant’s Dermatology Quality of Life Index (IDQ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matitis Family Impact (D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EBC-1EEB-472F-B9A1-156A31863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Life Severity Assessmen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709-C643-4EFA-BE91-1011B3372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matology Life Quality Inde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446720" y="1092240"/>
            <a:ext cx="340668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A9F4-D37A-474C-89C6-5C1A3B6BB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’s Dermatology Life Quality Inde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440240" y="1152360"/>
            <a:ext cx="33512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AE44-C4BA-4C59-B6F1-005E38367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93840" y="2066760"/>
            <a:ext cx="115758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a for AE referra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5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AFD-0755-4D5C-9F76-7EDAB61BE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422360" y="1698480"/>
            <a:ext cx="847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) Urgent referral (within 24 hou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 with clinical suspicion of eczema herpeticum (eczema with widespread herpes simplex infe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 with severe skin bacterial infection that requires intravenous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E with acute erythroderma where the eczema is affecting more than 80% body surface are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a for AE referra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5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C2A5-87B9-412F-B28C-96B92FC41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70080" y="1278000"/>
            <a:ext cx="8710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) Non-urgent refer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agnostic uncertai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vere or uncontrolled ecze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 of potent and very potent T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quent inf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or sleep or excessive scra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eatment failure with appropriate topical therapy regi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ental conc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 for treatment demonstration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volvement of sites that are difficult to tr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sychological disturbance on the patient or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5B4D-0CDF-44BA-9921-1AB54779C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3394080" y="227160"/>
            <a:ext cx="54244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8080" y="1812600"/>
            <a:ext cx="10515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PIC ECZEMA is a clinical diagnosis based on the U.K Working Party’s Diagnostic Criteria for Atopic Dermat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immunoglobulin E levels, patch test, skin prick test and skin biopsy should not be used as diagnostic tools for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ment of AE depends on the disease severity and quality of life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C56-4E8E-46AF-B299-68D481100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Home Mess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be able to diagnose Atopic Eczema (A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be able to assess severity of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A7AE-F7BE-4F62-85F0-09BDFF854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Objecti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C922-3862-4824-9916-1F1475C5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1638000"/>
            <a:ext cx="10515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E is a complex, chronic, recurring, itchy inflammatory  skin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starts to develop in early childhood and the prevalence can be as high as 20%. It may persist into adulthoo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complex interactions of genetic predispositions, environmental triggers and immune dysregulation leading to epidermal barrier def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illaggrin gene mutation causes  epidermal barrier de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6D77-90B6-4D6C-BB38-2F98F2438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oduc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1450440"/>
            <a:ext cx="1051560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E IS DIAGNOSED CLIN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systematic review, the most extensively validated diagnostic tools were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.K. Working Party’s Diagnostic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itivity - 100%, specificity -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ifin and Rajka Diagnostic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sitivity - 96%, specificity - 93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. Brenninkmeijer EE, et al. Br J Dermatol. 2008;158(4):754-7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487E-A485-42EA-ABE1-F2E58B8BD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i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C8A-FECF-4B9B-B27E-8203086D0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tic Criteri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 txBox="1"/>
          <p:nvPr/>
        </p:nvSpPr>
        <p:spPr>
          <a:xfrm>
            <a:off x="838080" y="598176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Williams HC, et al. Br J Dermatol. 1994;131(3):406-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739880" y="1368360"/>
            <a:ext cx="8583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CB34-1D41-48F6-9A1C-399049FC5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tic Criteria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 txBox="1"/>
          <p:nvPr/>
        </p:nvSpPr>
        <p:spPr>
          <a:xfrm>
            <a:off x="838080" y="6181200"/>
            <a:ext cx="10515600" cy="3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ifin JM. Acta Derm Venereol (Suppl). 1980; 92:44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907920" y="1174680"/>
            <a:ext cx="5440320" cy="480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6286680" y="3747960"/>
            <a:ext cx="534168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1149120"/>
            <a:ext cx="1051560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here is NO specific confirmatory laboratory investig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ack of evidence to suggest the use of specific IgE in supporting the diagnosis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kin prick test and patch test are only useful to exclude concomitant environmental and food allergies, and contact dermatitis resp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Skin biopsy is sometimes used to exclude other AE mimic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9. Flohr C, et al. J Allergy Clin Immunol. 2004; 114(1):150-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A44-E05F-4555-BEF2-1C27B4D80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stig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C5BD-8FF3-4305-8D49-DD2B9EB84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mmend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88880" y="2544840"/>
            <a:ext cx="113760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1261800"/>
            <a:ext cx="10515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numerous scoring tools used to assess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ystematic review of 382 RCTs showed the commonly used tools in descending order were: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ORing Atopic Dermatitis (SCOR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czema Area and Severity Index (E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igators’ Global Assessment (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x Area, Six Signs Atopic Dermatitis (SASS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s [e.g. Patient-Orientated Eczema Measure (POEM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 Rehal B, et al. PLoS One. 2011;6(4):e175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C46-A675-44D7-9BBD-B40F13383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verity Assessment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Dr. Mohd. Aminuddin</cp:lastModifiedBy>
  <dcterms:modified xsi:type="dcterms:W3CDTF">2019-02-27T00:29:26Z</dcterms:modified>
  <cp:revision>126</cp:revision>
  <dc:subject/>
  <dc:title>PowerPoint Presentation</dc:title>
</cp:coreProperties>
</file>