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.wmf" ContentType="image/x-wmf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6F10-524F-4E45-A9B7-25EA9E227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5533-A8A9-4807-B847-8DEC9571E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In a multicentre, randomized, double-blind, parallel-group study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crolimus (0.1% ointment) had similar efficacy to the mid-potent to potent topical corticosteroid, hydrocortisone butyrate, in the treatment of </a:t>
            </a: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adults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aged 16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‒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70 years (n=570) with moderate to severe atopic dermatitis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modified eczema area and severity index mean area under the curve as a percentage of baseline (the primary endpoint) was 47.0% with tacrolimus 0.03% ointment, 36.5% with tacrolimus 0.1% ointment and 36.1% with hydrocortisone butyrate 0.1% ointment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equated to a median improvement of 53.0% with 0.03% tacrolimus, 63.5% with 0.1% tacrolimus and 63.9% with hydrocortisone butyrate over the 3-week treatment course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1.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Reitamo S, et al. Efficacy and safety of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tacrolimus ointment compared with that of hydrocortisone butyrate ointment in adult patients with atopic dermatitis. 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J Allergy Clin Immunol 2002;109:547–55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D9A-3F0C-4CA8-A703-32358276D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In a phase 3, multicentre, randomized, open-label, parallel-group study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crolimus (0.1% ointment) had similar efficacy to the mid-potency topical corticosteroid, betamethasone valerate (0.12% ointment), in the treatment of </a:t>
            </a: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adults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≥16 years (n=181) with moderate to severe atopic dermatitis on the trunk and extremities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Of patients included in the efficacy analysis (78 and 84 in the tacrolimus and betamethasone valerate groups, respectively), &gt;90% of both groups achieved at least a moderate improvement in global score at the end of the 3-week treatment period. A moderate or greater global improvement was observed in a higher proportion of tacrolimus- than betamethasone valerate-treated patients at week 1 (71.8% vs 61.0%), week 2 (84.2% vs 81.5%), and week 3 (95.5% vs 91.5%), respectively, but this did not reach statistical significance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1. 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383839"/>
                </a:solidFill>
                <a:latin typeface="Arial"/>
                <a:ea typeface="Arial"/>
              </a:rPr>
              <a:t>Nakagawa H.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Comparison of the efficacy and safety of 0.1% tacrolimus ointment with topical corticosteroids in adult patients with atopic dermatitis: review of randomised, double-blind clinical studies conducted in Japan. </a:t>
            </a:r>
            <a:r>
              <a:rPr b="0" lang="en-US" sz="1200" spc="-1" strike="noStrike">
                <a:solidFill>
                  <a:srgbClr val="383839"/>
                </a:solidFill>
                <a:latin typeface="Arial"/>
                <a:ea typeface="Arial"/>
              </a:rPr>
              <a:t>Clin Drug Invest 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2006;26:235–2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A7B-FE02-4A98-8C3B-C376C8B82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Data from a randomised, double-blind, placebo-controlled trial indicate that betamethasone but not tacrolimus (0.1% and 0.03% ointment) reduced skin thickness in patients with atopic dermatitis (AD; n=14) and healthy volunteers (n=12). The median reduction in skin thickness with betamethasone was 7.4%, 7.1% and 8.8% relative to tacrolimus 0.1% (p=0.005), tacrolimus 0.03% (p=0.008) and vehicle control (p&lt;0.001).</a:t>
            </a:r>
            <a:r>
              <a:rPr b="0" lang="da-DK" sz="11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1 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No reduction in collagen expression markers was observed with tacrolimus (values were close to 100%), while these were significantly reduced with betamethasone (p&lt;0.001) .</a:t>
            </a:r>
            <a:r>
              <a:rPr b="0" lang="da-DK" sz="11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Improvement in skin lesions following short-term (3 weeks) treatment with tacrolimus in 10 adult patients with moderate to severe AD has been associated with anti-inflammatory effects, characterised by reduced skin infiltrating inflammatory cells (T cell, B cells and eosinophils) and cytokine expression.</a:t>
            </a:r>
            <a:r>
              <a:rPr b="0" lang="da-DK" sz="11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Referen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1. 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Reitamo S, et al. </a:t>
            </a:r>
            <a:r>
              <a:rPr b="0" lang="en-US" sz="1100" spc="-1" strike="noStrike">
                <a:solidFill>
                  <a:srgbClr val="383839"/>
                </a:solidFill>
                <a:latin typeface="Arial"/>
                <a:ea typeface="Arial"/>
              </a:rPr>
              <a:t>Tacrolimus Ointment does not Affect Collagen Synthesis: Results of a Single-Center Randomized Trial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. 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J Invest Dermatol 1998;111:396–39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2. 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Simon D, et al. </a:t>
            </a:r>
            <a:r>
              <a:rPr b="0" lang="en-US" sz="1100" spc="-1" strike="noStrike">
                <a:solidFill>
                  <a:srgbClr val="383839"/>
                </a:solidFill>
                <a:latin typeface="Arial"/>
                <a:ea typeface="Arial"/>
              </a:rPr>
              <a:t>Reduced dermal infiltration of cytokine expressing 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inflammatory cells in atopic </a:t>
            </a:r>
            <a:r>
              <a:rPr b="0" lang="en-US" sz="1100" spc="-1" strike="noStrike">
                <a:solidFill>
                  <a:srgbClr val="383839"/>
                </a:solidFill>
                <a:latin typeface="Arial"/>
                <a:ea typeface="Arial"/>
              </a:rPr>
              <a:t>dermatitis after short-term topical tacrolimus 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treatment. 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J Allergy Clin Immunol 2004;114:887–89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8726-62A4-4758-8236-DDA8C74D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a novel cell-selective inhibitor of inflammatory cytokines that has specifically been developed for the treatment of inflammatory skin diseases due to its favourable skin selective pharmacological profile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ecifically targets T cells and mast cells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999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hibits the production and release of cytokines and other inflammatory mediators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roduction of cytokines in the skin leads to the inflammation and itch which is characteristic of AD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ell selective mode of action implies that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has a low potential to cause side effects (vs TCS)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hibits t cell then inflammation and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ham-Brown RA, et al. Int J Clin Pract 2003;57:319-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ssberger M, et al. Exp Dermatol 2004;13:721-3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eber T. N Engl J Med 2008;358:1483-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at the first signs or symptoms of AD can reduce the progression to disease flares and increase the interval between flares in children with AD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In a 26-week multicentre, randomised, double-blind, vehicle-controlled study in 521 children with mild-to-moderate AD,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was associated with a significantly longer flare-free interval compared with vehicle (median time to first flare: &gt;190 days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and 59 days with vehicle, p&lt;0.0001) and patients treated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had 50% fewer flares than those on vehicle (mean number of flares: 0.84 vs 1.68, respectively, p&lt;0.0001)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Sigurgeirsson B, et al.  JEADV 2008;22:1290-301</a:t>
            </a: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572e2d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Wahn U, et al. Pediatrics 2002;110:e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at the first signs or symptoms of AD can reduce the progression to disease flares and increase the interval between flares in adults with AD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In a 26-week multicentre, randomised, double-blind, vehicle-controlled study in 543 adults with mild-to-moderate AD,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was associated with a significantly longer flare-free interval compared with vehicle (median time to first flare: &gt;190 days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and 67 days with vehicle, p&lt;0.001) and patients treated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had 61% fewer flares than those on vehicle (median number of flares: 0.39 vs 1.00, respectively, p=0.0014)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Main message: Patients with Elidel stayed more than 190 days (6 months) without flares. Elidel reduce the no. of AD flares both in children that in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Gollnick H, et al. Br J Dermatol 2008;158:1083-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Meurer M, et al. Dermatology 2002;205:271-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363-755E-45E5-B780-4069A7192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randomised, double-blind, parallel-group study involving 198 adults with AD showed that Elide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produced a </a:t>
            </a: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clinically relevant, statistically significant improvement in pruritus, compared with vehicle. More than half of Elide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-treated patients (56%) had reduced their pruritus score by ≥1 point within 48 hours, a significantly greater proportion than for vehicle-treated patients (34%, p=0.003)</a:t>
            </a:r>
            <a:r>
              <a:rPr b="0" lang="en-GB" sz="10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In a second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andomised, double-blind, parallel-group study involving 130 adults with AD, the proportion of patients who had no or mild pruritus was significantly higher in the Elide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compared with the vehicle group after only 2 days of treatment (p&lt;0.01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study in 174 children and adolescents with AD showed that Elide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improved prutitus within 48 hours and achieved complete resolution of pruritus in a significantly greater proportion of patients versus vehicle at the end of the 7-day treatment period (37% vs 18%, respectively; p=0.008)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These data are supported by results from real-life studies involving over 10,000 patients that have also demonstrated a marked and rapid improvement in AD-related symptoms with Elidel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in daily practice</a:t>
            </a:r>
            <a:r>
              <a:rPr b="0" lang="en-GB" sz="10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4-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Elidel gives significant reduction of pruritus in 2 day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572e2d"/>
                </a:solidFill>
                <a:latin typeface="Noteworthy Bold"/>
                <a:ea typeface="MS PGothic"/>
              </a:rPr>
              <a:t>Referenc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Kaufmann R, et al. Allergy 2006;61:375-81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Meurer M, et al. Dermatol 2004;208:365-72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Fowler J, et al. Cutis 2007;79:65-72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Lübbe J, et al. Am J Clin Dermatol 2006;7:121-31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Luger TA, et al. J Dtsch Dermatol Ges 2007;5:908-14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Noteworthy Bold"/>
                <a:ea typeface="MS PGothic"/>
              </a:rPr>
              <a:t>Sunderkötter C, et al. J Dtsch Dermatol Ges 2006;4:301-6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a study of 16 healthy volunteers,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its vehicle, betamethasone 0.1%, and triamcinolone 0.1% were applied to the forearms twice-daily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TCS induced a significant reduction in skin thickness as measured by ultrasound compared to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nd its vehicle from day 8 onwards (shown on this slide)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stological analysis at day 29 also showed significant skin thinning with TCS compared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nd its vehicle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ther studies have confirmed that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does not cause skin atrophy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Noteworthy Bol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Calibri"/>
              </a:rPr>
              <a:t>Queille-Roussel C, et al. Br J Dermatol 2001;144:507-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Calibri"/>
              </a:rPr>
              <a:t>Aschoff R, et al. Exp Dermatol 2011;20:832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Calibri"/>
              </a:rPr>
              <a:t>Jensen JM, et al. J Allergy Clin Immunol 2009;123:1124-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Several randomised clinical trials and real-life studies have shown that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is highly effective for the treatment of facial dermatitis in both adults and children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A significantly greater proportion of adults were cleared or almost cleared of facial AD (47% vs 16%, p&lt;0.001) after 6 weeks of treatment with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compared with vehicle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572e2d"/>
              </a:buClr>
              <a:buFont typeface="Noteworthy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Similarly, six weeks of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MS PGothic"/>
              </a:rPr>
              <a:t>®</a:t>
            </a:r>
            <a:r>
              <a:rPr b="0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 treatment in children led to a greater proportion of patients being cleared or almost cleared of facial AD compared with vehicle (74.5% vs. 51.0%, p&lt;0.001)</a:t>
            </a:r>
            <a:r>
              <a:rPr b="0" lang="en-GB" sz="1200" spc="-1" strike="noStrike" baseline="30000">
                <a:solidFill>
                  <a:srgbClr val="572e2d"/>
                </a:solidFill>
                <a:latin typeface="Noteworthy Bold"/>
                <a:ea typeface="MS PGothi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572e2d"/>
                </a:solidFill>
                <a:latin typeface="Noteworthy Bold"/>
                <a:ea typeface="MS PGothic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MS PGothic"/>
              </a:rPr>
              <a:t>Murrell DF, et al. Br J Dermatol 2007;157:954-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MS PGothic"/>
              </a:rPr>
              <a:t>Hoeger PH, et al. Br J Dermatol 2009;160:415-2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MS PGothic"/>
              </a:rPr>
              <a:t>Lübbe J, et al. Am J Clin Dermatol 2006;7:121-3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yelid dermatitis affects over 80% of AD patients, is difficult to treat, and burdensome to patients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CS are unsuitable for the treatment of eyelid dermatitis since eyelids are particularly sensitive to TCS-induced atrophy, and glaucoma and irreversible vision loss due to percutaneous absorption of TCS have been reported in patients with AD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effective in clearing eyelid dermatitis with a significantly greater proportion of patients clear of eyelid dermatitis after 6 weeks of Elidel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reatment compared with vehicle (44.6% vs 19.2%; p&lt;0.001)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re we cannot use T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protopic and elidel, but cream is preferred to ointment because it is not gr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Noteworthy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Noteworthy Bold"/>
                <a:ea typeface="MS PGothic"/>
              </a:rPr>
              <a:t>Murrell DF, et al. Br J Dermatol 2007;157:954-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Fleischer 2007, compared the efficacy and safety of tacrolimus ointment 0.1% and pimecrolimus cream 1% in adult patients with moderate to very severe atopic dermatitis (AD). A total of 281 patients (141 treated with tacrolimus and 140 treated with pimecrolimus) were randomized to a multicenter, investigator-blinded, 6-week stu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Results : Tacrolimus treated patients had significantly greater improvements in the EASI score compare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pimecrolimus-treated patients (% reduction in EASI score: 57% vs 39%, respectively; p=0.000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Treatment success was also significantly greater among the tacrolimus-treated patients compared with pimecrolimus treated patients (40% vs 22% at study end; p=0.001), as was the improvement in percentage of total body surface area affected (a reduction of 49% vs 34% at study end; p=0.0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There were no significant differences in the incidences of adverse events, including application-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burning and application-site pruritus, the two most commonly reported adverse events. Significantly more pimecrolimus treated patients than tacrolimus-treated patients withdrew from the study due to lack of efficacy (10 vs 1, p=0.00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5F59-9968-46D1-B773-9101CF39CD1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7EE-0AAF-4B75-82CB-BF5F70B9D24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30E5-F5EB-41A3-B834-0E0F7396F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Atopic dermatitis is a multifactorial, heterogenous disease, characterised by skin barrier dysfunction and immune system dysregulation. Long-term treatment strategies need to be multifactorial to address both underlying aspects of the condition.</a:t>
            </a:r>
            <a:r>
              <a:rPr b="0" lang="da-DK" sz="11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1,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In addition to tackling skin barrier dysfunction, tacrolimus acts at several points in the inflammatory cascase to address immune system dysfunction: tacrolimus prevents the activation and proliferation of T cells, blocks production of pro-inflammatory cytokines, and decreases antigen recognition.</a:t>
            </a:r>
            <a:r>
              <a:rPr b="0" lang="da-DK" sz="11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3,4,5</a:t>
            </a:r>
            <a:r>
              <a:rPr b="0" lang="da-DK" sz="1100" spc="-1" strike="noStrike">
                <a:solidFill>
                  <a:srgbClr val="383839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Referenc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1. 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Darsow U, et al. </a:t>
            </a:r>
            <a:r>
              <a:rPr b="0" lang="en-US" sz="1100" spc="-1" strike="noStrike">
                <a:solidFill>
                  <a:srgbClr val="383839"/>
                </a:solidFill>
                <a:latin typeface="Arial"/>
                <a:ea typeface="Arial"/>
              </a:rPr>
              <a:t>Position paper on diagnosis and treatment of atopic dermatitis. 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J Eur Acad Dermatol Venereol 2005;19:286–29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38383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Danby SG and Cork MJ. </a:t>
            </a:r>
            <a:r>
              <a:rPr b="0" lang="en-US" sz="1100" spc="-1" strike="noStrike">
                <a:solidFill>
                  <a:srgbClr val="383839"/>
                </a:solidFill>
                <a:latin typeface="Arial"/>
                <a:ea typeface="Arial"/>
              </a:rPr>
              <a:t>A new understanding of atopic dermatitis: the role of epidermal barrier dysfunction and subclinical inflammation. </a:t>
            </a:r>
            <a:r>
              <a:rPr b="0" lang="en-GB" sz="1100" spc="-1" strike="noStrike">
                <a:solidFill>
                  <a:srgbClr val="383839"/>
                </a:solidFill>
                <a:latin typeface="Arial"/>
                <a:ea typeface="Arial"/>
              </a:rPr>
              <a:t>J Clin Derm 2010;1:33‒4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ico MJ and Lawrence I. Tacrolimus ointment for the treatment of atopic dermatitis: clinical and pharmacologic effects. Allergy Asthma Proc 2002;23:191‒197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impson D and Noble S. Tacrolimus ointment: a review of its use in atopic dermatitis and its clinical potential in other inflammatory skin conditions. Drugs 2005;65:827‒85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ollenberg A, et al. Topical tacrolimus (FK506) leads to profound phenotypic and functional alterations of epidermal antigen-presenting dendritic cells in atopic dermatitis. J Allergy Clin Immunol 2001;107:519‒5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52A-A021-4825-AA9C-4311A2666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Tacrolimus acts at several critical pathways involved in the cutaneous immune response relevant to atopic dermatitis (AD). These include decreased activation and proliferation of T cells, resulting in reduced production of pro-inflammatory cytokines; alteration of cell surface IgE receptor expression, leading to decreased antigen recognition; and inhibition of the release of inflammatory mediators such as histamine. Tacrolimus therefore suppresses immune system hyperactivity in AD, ultimately reducing skin inflammation and pruritus.</a:t>
            </a:r>
            <a:r>
              <a:rPr b="0" lang="en-GB" sz="1200" spc="-1" strike="noStrike" baseline="30000">
                <a:solidFill>
                  <a:srgbClr val="383839"/>
                </a:solidFill>
                <a:latin typeface="Arial"/>
                <a:ea typeface="Arial"/>
              </a:rPr>
              <a:t>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838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Rico MJ and Lawrence I. Tacrolimus ointment for the treatment of atopic dermatitis: clinical and pharmacologic effects. Allergy Asthma Proc 2002;23:191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‒19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838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Simpson D and Noble S. Tacrolimus ointment: a review of its use in atopic dermatitis and its clinical potential in other inflammatory skin conditions. Drugs 2005;65:827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‒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8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8383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Wollenberg A, et al. Topical tacrolimus (FK506) leads to profound phenotypic and functional alterations of epidermal antigen-presenting dendritic cells in atopic dermatitis. J Allergy Clin Immunol 2001;107:519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‒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5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7CEA-8B34-4495-B558-690744E96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In a multicentre, randomized, double-blind, parallel-group study,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acrolimus was significantly more effective than the low potency topical corticosteroid, hydrocortisone acetate, in the treatment of </a:t>
            </a:r>
            <a:r>
              <a:rPr b="0" lang="en-US" sz="1200" spc="-1" strike="noStrike">
                <a:solidFill>
                  <a:srgbClr val="383839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hildren aged 2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Arial"/>
              </a:rPr>
              <a:t>‒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15 years (n=560) with moderate to severe atopic dermatitis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e modified eczema area and severity index (mEASI) mean area under the curve (mAUC) as a percentage of baseline (the primary endpoint) was 44.8% with tacrolimus 0.03% ointment compared with 64.0% with hydrocortisone acetate 1% ointment (p&lt;0.001)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This equated to a median improvement of 55.2% with 0.03% tacrolimus and 36.0% with hydrocortisone acetate over the 3-week treatment course.</a:t>
            </a:r>
            <a:r>
              <a:rPr b="0" lang="en-US" sz="1200" spc="-1" strike="noStrike" baseline="30000">
                <a:solidFill>
                  <a:srgbClr val="4d4d4d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1.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	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Reitamo S, et al. Efficacy and safety of </a:t>
            </a:r>
            <a:r>
              <a:rPr b="0" lang="en-GB" sz="1200" spc="-1" strike="noStrike">
                <a:solidFill>
                  <a:srgbClr val="383839"/>
                </a:solidFill>
                <a:latin typeface="Arial"/>
                <a:ea typeface="Arial"/>
              </a:rPr>
              <a:t>tacrolimus ointment compared with that of hydrocortisone acetate ointment in children with atopic dermatitis. </a:t>
            </a:r>
            <a:r>
              <a:rPr b="0" lang="da-DK" sz="1200" spc="-1" strike="noStrike">
                <a:solidFill>
                  <a:srgbClr val="383839"/>
                </a:solidFill>
                <a:latin typeface="Arial"/>
                <a:ea typeface="Arial"/>
              </a:rPr>
              <a:t>J Allergy Clin Immunol 2002;109:539–5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FE7A-B677-4FF4-AC39-F087EAF55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3CC-DD92-4FF7-8E2E-40D69707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D69-BA26-46B6-B6CC-AAA5E102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2811-B02F-4651-A45B-334FDEB194A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D975-77A0-447B-A550-0315E174E1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46500-6C85-45BF-BE3F-7A7F5FB166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82EB-BD51-4FD9-8573-7DC6D86C1D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AC00-4FBD-4B53-ACA8-D4D53DA6C8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1908-7A71-4679-93EE-888B811A709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91D4-1AAB-4DB6-835A-8D5F8B104C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9FF3-CAED-4270-BDDA-C8C4372703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26C98-EB17-4B60-8571-7C06076B10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906AF-95DE-45A1-9F30-9DB0FB06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8B8-9454-4D73-BA2C-11FF47C4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63422-3B57-4348-9A19-8C864482140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A8960-9383-41F6-8A17-D2638C580C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A880A-7738-4112-BD18-E63C86AD78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6751F-C92C-4BB6-8573-30683A1D5C4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BB86B7-64DD-4DF6-B3E8-580CD132F4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A416B-DAFB-4398-9A49-3B922F9F290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64625-5299-4048-8C90-67FB503CAF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725B3-3F00-4552-89CC-8450741535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81A55-EB10-4E60-A32A-C819BC6841E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1BBC1-7F9A-4C21-870E-1B4B848F2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973-A8E7-4917-A3B5-83FA364F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3516E-332C-48B8-BC8C-B41AF942E6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DC7EF-7816-4EE4-BC4E-89D25BF3F4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B0C13-0C41-4A7B-B776-8C6676FC938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A32CF-0A28-44DF-AEA5-BD625495B8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64B32-8FED-4DEB-B165-C4E8F59255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108AC-B193-4328-98F2-0A5299DB6A1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362C1-3A02-4AB4-B27C-15A264C97D1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CAA90-2C3E-4021-8A1E-5A6BEEC9E7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E38A5-0AFE-4077-8129-8AA64F1F7F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412F4-D813-4D2F-9C16-863FF444F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28BC-7433-4505-8863-AEF4E95A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11706-C66D-4B49-9941-FF20DB9CCB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6AB37-73CD-4828-AA62-971330F1F35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A0EA5-458A-4974-86C3-A4D3DE787C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6E03-5C32-49D9-A1BC-DD1E7F0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CBEA-08BD-44E5-A1D6-89CD65F5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D2EE-9D39-40E6-8F4E-25F0C75F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E010-E3E0-4D6D-A08A-87336C8B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4A74-508C-4896-B3BE-96EC576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6E7B-279A-4F22-A14C-7AE5E6FD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6DD-CCE8-4405-8647-BCBA121A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B7C1-5C7E-406C-91D4-6FE4F92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CCE-6774-460B-899E-0CA39954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8ACC-3123-4075-B046-D2C3EA96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22CF-10F0-45CE-8B72-97568DA4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0B61-4A5C-4D3E-B644-68540CD8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BA21-1551-45F2-9D90-BA268E73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A356-FB45-48D3-9A86-8033F0C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4277-9C22-437B-8128-B17CA966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55B1-3078-4FCE-9494-0DCC291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15F5-D48A-4C01-BB2B-3DA0C468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C82-8180-463E-B403-76C83ED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942FB-F1B0-47B7-AF21-4956D5C6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ACC3-5773-423D-9B14-FD06EA0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8D43-7BFE-40E8-8FDD-4581B5BA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E4E9A-595E-4866-A897-B3F0DE5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AAE0-0B45-489F-9EBA-DA1D0FAD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AC8A-CF57-4256-B7B8-DB4A120A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FF13-A38C-44E2-9E75-205F6ED2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78DB7-7F90-428B-A402-4069E7F9CE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19891-BA83-4B28-8880-5E9B246116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25C16-41E0-4CAA-9A8E-723FF8EDA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03F-9402-4C6D-98F7-355391E2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0B26A-7053-4D1C-AC22-E69F374D94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8E97D-8169-4489-995C-4A10568FDF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C2667-F134-4AC9-B4C5-01EC1CCC51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BCDF0-F38D-452F-8244-16AC1022A3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0C2E5-190E-4B1E-A6D2-A5EA75A075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2F2CC-1EA8-4DDD-B439-0CE0E0F5E4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B7E0B-1081-4CF3-8B1A-BC7D85FB6E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44B73-A2AC-43A0-BBBF-333EDE5D40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B061AB-3F94-40E7-A3BE-5F528EAF5E7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2AC47-CEBF-4C53-B400-559E099B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92B-8658-4A8E-AE78-7D684001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F38F0-926B-4BA5-B4D8-004F70C00E3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84BF9-A736-47C3-843D-0A0E908EFE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3E8C8-3E29-405A-8F93-996A9C5708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69813-5C0A-49E7-93C1-7CF1268954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B220D-4CC3-42BD-8189-36C588B095F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1CD3B-407C-43FB-AED1-EDCD4BA115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1732E-B081-4B8B-8976-85223D418A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0381C-4BC0-4A78-80C2-751079F11F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7B247-320C-4B20-BFCD-01CA3650C3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EE1E5-2E60-477B-9ED8-E6DE9CB61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07D-87B4-4370-B33B-E4213E0F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D003C-4C00-408E-87EE-5DF1DD11825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1D25-F7D4-4A32-82AF-60BF3CA2B3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DDC5-1C1F-45CF-8A56-17C5E5C4E2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6792-EB83-4509-8A0B-D0C3985589E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1787C-A754-4367-A68C-8B86082E44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DC1B-D18E-4C61-B2EE-B1629EC8B2E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8C22-6E26-4236-B510-2C7A17492A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2584F-5DA4-4034-A2DD-D99C6B1D58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947F0-09C0-42EE-A127-04C13A1F9D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D620-9219-4073-B478-933EFA633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287-4274-4D79-A565-A386ECB4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EBFE-E9F4-411B-9AF3-D7095A4240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218F-9A22-48EF-ADD8-A889B13FA0A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B6B67-739C-4EC6-A98E-0AC7A06922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9946B-00E2-4A41-AA81-DB1617846B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3BAC2-BE96-462B-9989-A1A356755ED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69FC6-FDFF-4501-98A6-F1E88B2E93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18B7F-CF91-423D-969F-900D0309A3B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B1BE1-150D-44DF-BCF1-91B5852CCF2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DCA00-7A25-44BD-A102-E662ABAFF1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110AD-D380-4E2F-AE66-7C53D3A50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077-E2E4-4EDE-9D3D-340EB75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D0F32-5056-4348-8AAF-818141A871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52E1A6-252F-4A62-B33F-3A05A555F35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E48DD-5B9C-4E3B-B8B1-D5CBB57F0C1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457E8-D924-4307-9279-E461272A70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42599-DBEB-4294-B1F8-FB5D1D141B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33387-66AA-4696-A1E8-2408E79C02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0438D-6720-45C5-95FA-E15931CAF7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53A65-EA6B-4341-B241-64E394906D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08E9F-1FC3-4EC9-A58F-A7DBD5872E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78E09-32AE-433D-8606-AA748D677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D3A-88BC-477A-85D6-8453E4C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770D6-5CDD-4CD8-B450-286799BA47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1C2D9-495E-4DD1-9352-D22A1EFD996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AB960-C266-4F33-AF4E-DD08ABE1CA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31848-7E61-49C8-B383-3D00DAB40F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7CD05-0707-4B95-A43B-37EB3AC71C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160D2-6C01-4FD6-96D2-D66CE26228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0D9C7-BFF2-4DC4-A317-2782398D1D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288D1-D63A-4F36-809A-F11E88488A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3EF0-56FD-4112-8CC8-813C3E2351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B4BE-C272-4506-94C3-7F888475A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8BC-26F1-4F7C-B235-6F3B8D188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5000-A3A4-40C5-8811-8C766DCC7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6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ac6d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8CF-1951-4AD6-AE31-3C5D5B8809C3}" type="slidenum">
              <a:rPr b="0" lang="en-US" sz="1400" spc="-1" strike="noStrike">
                <a:solidFill>
                  <a:srgbClr val="8ac6d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7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0B4A-EC22-49BC-A12D-FD8518404066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A7AC-D147-4D7B-8882-034EB3C5DC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88C-CDC5-492D-967A-9EFA0EA8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2AD5-EB05-4D1C-8AB6-3DB4D0F19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a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493-4AFF-4B20-A98F-F873AAB7F4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0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0676-D3D3-410D-807E-3365F3296CB8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5C81-40AC-4523-B413-790785434AA2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2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0FF1-A050-476D-9990-2C0689BCEC28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3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1C76-99F1-427C-AB2A-6FD8484DEBCF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4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72c4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686E-7543-48B1-A57B-39768300CF0F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0840" y="1247760"/>
            <a:ext cx="11363040" cy="507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5"/>
          </p:nvPr>
        </p:nvSpPr>
        <p:spPr>
          <a:xfrm>
            <a:off x="11353680" y="166320"/>
            <a:ext cx="54144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ac6d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3804-A711-4BBA-ACDB-E440DE7BAE9E}" type="slidenum">
              <a:rPr b="0" lang="en-US" sz="1400" spc="-1" strike="noStrike">
                <a:solidFill>
                  <a:srgbClr val="8ac6d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241200" y="1925640"/>
            <a:ext cx="7709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al Treatment in A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al Calcineurin Inhib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Azura Mohd Affand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nt Dermatolog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Dermat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Kuala Lumpur, Kuala Lump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ficacy of Tacrolim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chrane systematic review showed that tacrolimus 0.1% ointment impro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54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’s assessment of glob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54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body surface area (B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54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54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ly compared with hydrocortisone acetate 1% ointment and hydrocortisone butyrate 0.1% ointment in moderate to severe AE at six months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B70-A25A-434C-B50D-CB606E94E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Chart 5" descr=""/>
          <p:cNvPicPr/>
          <p:nvPr/>
        </p:nvPicPr>
        <p:blipFill>
          <a:blip r:embed="rId1"/>
          <a:stretch/>
        </p:blipFill>
        <p:spPr>
          <a:xfrm>
            <a:off x="2790720" y="1427040"/>
            <a:ext cx="6678720" cy="4564080"/>
          </a:xfrm>
          <a:prstGeom prst="rect">
            <a:avLst/>
          </a:prstGeom>
          <a:ln w="0">
            <a:noFill/>
          </a:ln>
        </p:spPr>
      </p:pic>
      <p:sp>
        <p:nvSpPr>
          <p:cNvPr id="598" name="Slide Number Placeholder 4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2176-6BD7-4D21-B21E-09F077B7ABA1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1"/>
          <p:cNvSpPr/>
          <p:nvPr/>
        </p:nvSpPr>
        <p:spPr>
          <a:xfrm rot="16200000">
            <a:off x="967320" y="3097800"/>
            <a:ext cx="304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an improvement 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I mAUC (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095880" y="643860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tamo S, et al. J Allergy Clin Immunol. 2002;109(3):547-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07880" y="5663880"/>
            <a:ext cx="653904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ults (16 - 70 years; n=570) with moderate to severe atopic dermatitis; Treatments administered twice daily for 3 weeks; p&lt;0.001 for tracrolimus 0.1% vs tacrolimus 0.03%; p=0.02 for hydrocortisone butyrate 0.1% vs tacrolimus 0.03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07520" y="166320"/>
            <a:ext cx="11363400" cy="108108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acrolimus 0.1% ointment has comparable efficacy to a mid-potent TCS (hydrocortisone butyrate 0.1% ointment) in ad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"/>
          <p:cNvPicPr/>
          <p:nvPr/>
        </p:nvPicPr>
        <p:blipFill>
          <a:blip r:embed="rId1"/>
          <a:stretch/>
        </p:blipFill>
        <p:spPr>
          <a:xfrm>
            <a:off x="1446120" y="125280"/>
            <a:ext cx="8072640" cy="4867560"/>
          </a:xfrm>
          <a:prstGeom prst="rect">
            <a:avLst/>
          </a:prstGeom>
          <a:ln w="0">
            <a:noFill/>
          </a:ln>
        </p:spPr>
      </p:pic>
      <p:sp>
        <p:nvSpPr>
          <p:cNvPr id="605" name="Slide Number Placeholder 4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2C5-BFE3-4F87-89CB-7590C42E1C6E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Group 4"/>
          <p:cNvGrpSpPr/>
          <p:nvPr/>
        </p:nvGrpSpPr>
        <p:grpSpPr>
          <a:xfrm>
            <a:off x="4243320" y="2044800"/>
            <a:ext cx="4182840" cy="2870280"/>
            <a:chOff x="4243320" y="2044800"/>
            <a:chExt cx="4182840" cy="2870280"/>
          </a:xfrm>
        </p:grpSpPr>
        <p:sp>
          <p:nvSpPr>
            <p:cNvPr id="607" name="Rectangle 12"/>
            <p:cNvSpPr/>
            <p:nvPr/>
          </p:nvSpPr>
          <p:spPr>
            <a:xfrm>
              <a:off x="4243320" y="4165560"/>
              <a:ext cx="1139760" cy="749520"/>
            </a:xfrm>
            <a:prstGeom prst="rect">
              <a:avLst/>
            </a:prstGeom>
            <a:solidFill>
              <a:srgbClr val="8faa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Rectangle 13"/>
            <p:cNvSpPr/>
            <p:nvPr/>
          </p:nvSpPr>
          <p:spPr>
            <a:xfrm>
              <a:off x="7284600" y="4017960"/>
              <a:ext cx="1141560" cy="897120"/>
            </a:xfrm>
            <a:prstGeom prst="rect">
              <a:avLst/>
            </a:prstGeom>
            <a:solidFill>
              <a:srgbClr val="849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4243320" y="2575080"/>
              <a:ext cx="1139760" cy="1590480"/>
            </a:xfrm>
            <a:prstGeom prst="rect">
              <a:avLst/>
            </a:prstGeom>
            <a:solidFill>
              <a:srgbClr val="8a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Rectangle 12"/>
            <p:cNvSpPr/>
            <p:nvPr/>
          </p:nvSpPr>
          <p:spPr>
            <a:xfrm>
              <a:off x="4243320" y="2044800"/>
              <a:ext cx="1139760" cy="530280"/>
            </a:xfrm>
            <a:prstGeom prst="rect">
              <a:avLst/>
            </a:prstGeom>
            <a:solidFill>
              <a:srgbClr val="2f5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Rectangle 13"/>
            <p:cNvSpPr/>
            <p:nvPr/>
          </p:nvSpPr>
          <p:spPr>
            <a:xfrm>
              <a:off x="7284600" y="2484360"/>
              <a:ext cx="1141560" cy="1533600"/>
            </a:xfrm>
            <a:prstGeom prst="rect">
              <a:avLst/>
            </a:prstGeom>
            <a:solidFill>
              <a:srgbClr val="999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Rectangle 13"/>
            <p:cNvSpPr/>
            <p:nvPr/>
          </p:nvSpPr>
          <p:spPr>
            <a:xfrm>
              <a:off x="7284600" y="2144880"/>
              <a:ext cx="1141560" cy="3394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25"/>
          <p:cNvSpPr/>
          <p:nvPr/>
        </p:nvSpPr>
        <p:spPr>
          <a:xfrm>
            <a:off x="2620800" y="1695960"/>
            <a:ext cx="5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6"/>
          <p:cNvSpPr/>
          <p:nvPr/>
        </p:nvSpPr>
        <p:spPr>
          <a:xfrm>
            <a:off x="2717640" y="291240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27"/>
          <p:cNvSpPr/>
          <p:nvPr/>
        </p:nvSpPr>
        <p:spPr>
          <a:xfrm>
            <a:off x="2717640" y="322056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28"/>
          <p:cNvSpPr/>
          <p:nvPr/>
        </p:nvSpPr>
        <p:spPr>
          <a:xfrm>
            <a:off x="2717640" y="352548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29"/>
          <p:cNvSpPr/>
          <p:nvPr/>
        </p:nvSpPr>
        <p:spPr>
          <a:xfrm>
            <a:off x="2717640" y="382464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0"/>
          <p:cNvSpPr/>
          <p:nvPr/>
        </p:nvSpPr>
        <p:spPr>
          <a:xfrm>
            <a:off x="2717640" y="413424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31"/>
          <p:cNvSpPr/>
          <p:nvPr/>
        </p:nvSpPr>
        <p:spPr>
          <a:xfrm>
            <a:off x="2717640" y="443664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32"/>
          <p:cNvSpPr/>
          <p:nvPr/>
        </p:nvSpPr>
        <p:spPr>
          <a:xfrm>
            <a:off x="2851200" y="47455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33"/>
          <p:cNvSpPr/>
          <p:nvPr/>
        </p:nvSpPr>
        <p:spPr>
          <a:xfrm rot="16200000">
            <a:off x="969120" y="3221280"/>
            <a:ext cx="30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Pati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34"/>
          <p:cNvSpPr/>
          <p:nvPr/>
        </p:nvSpPr>
        <p:spPr>
          <a:xfrm>
            <a:off x="3292560" y="5006880"/>
            <a:ext cx="30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83839"/>
                </a:solidFill>
                <a:latin typeface="Arial"/>
                <a:ea typeface="Arial"/>
              </a:rPr>
              <a:t>Tacrolimus 0.1% ointment (n=7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35"/>
          <p:cNvSpPr/>
          <p:nvPr/>
        </p:nvSpPr>
        <p:spPr>
          <a:xfrm>
            <a:off x="6327720" y="4991040"/>
            <a:ext cx="304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83839"/>
                </a:solidFill>
                <a:latin typeface="Arial"/>
                <a:ea typeface="Arial"/>
              </a:rPr>
              <a:t>Betamethasone valerate 0.1% ointment (n=8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4" name="Group 17"/>
          <p:cNvGrpSpPr/>
          <p:nvPr/>
        </p:nvGrpSpPr>
        <p:grpSpPr>
          <a:xfrm>
            <a:off x="3200400" y="1870200"/>
            <a:ext cx="6173640" cy="3128400"/>
            <a:chOff x="3200400" y="1870200"/>
            <a:chExt cx="6173640" cy="3128400"/>
          </a:xfrm>
        </p:grpSpPr>
        <p:sp>
          <p:nvSpPr>
            <p:cNvPr id="625" name="Freeform 18"/>
            <p:cNvSpPr/>
            <p:nvPr/>
          </p:nvSpPr>
          <p:spPr>
            <a:xfrm>
              <a:off x="3282120" y="1870200"/>
              <a:ext cx="6091920" cy="3039840"/>
            </a:xfrm>
            <a:custGeom>
              <a:avLst/>
              <a:gdLst/>
              <a:ahLst/>
              <a:rect l="l" t="t" r="r" b="b"/>
              <a:pathLst>
                <a:path w="8839" h="3988">
                  <a:moveTo>
                    <a:pt x="0" y="0"/>
                  </a:moveTo>
                  <a:lnTo>
                    <a:pt x="0" y="3988"/>
                  </a:lnTo>
                  <a:lnTo>
                    <a:pt x="8839" y="3988"/>
                  </a:lnTo>
                </a:path>
              </a:pathLst>
            </a:custGeom>
            <a:noFill/>
            <a:ln cap="sq"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>
              <a:off x="3200400" y="187020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0"/>
            <p:cNvSpPr/>
            <p:nvPr/>
          </p:nvSpPr>
          <p:spPr>
            <a:xfrm>
              <a:off x="3200400" y="217296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21"/>
            <p:cNvSpPr/>
            <p:nvPr/>
          </p:nvSpPr>
          <p:spPr>
            <a:xfrm>
              <a:off x="3200400" y="278100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22"/>
            <p:cNvSpPr/>
            <p:nvPr/>
          </p:nvSpPr>
          <p:spPr>
            <a:xfrm>
              <a:off x="3200400" y="338904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23"/>
            <p:cNvSpPr/>
            <p:nvPr/>
          </p:nvSpPr>
          <p:spPr>
            <a:xfrm>
              <a:off x="3200400" y="399708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24"/>
            <p:cNvSpPr/>
            <p:nvPr/>
          </p:nvSpPr>
          <p:spPr>
            <a:xfrm>
              <a:off x="3200400" y="430200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25"/>
            <p:cNvSpPr/>
            <p:nvPr/>
          </p:nvSpPr>
          <p:spPr>
            <a:xfrm>
              <a:off x="3200400" y="460512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26"/>
            <p:cNvSpPr/>
            <p:nvPr/>
          </p:nvSpPr>
          <p:spPr>
            <a:xfrm>
              <a:off x="3200400" y="491004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27"/>
            <p:cNvSpPr/>
            <p:nvPr/>
          </p:nvSpPr>
          <p:spPr>
            <a:xfrm flipV="1">
              <a:off x="3282120" y="4910040"/>
              <a:ext cx="0" cy="8856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28"/>
            <p:cNvSpPr/>
            <p:nvPr/>
          </p:nvSpPr>
          <p:spPr>
            <a:xfrm flipV="1">
              <a:off x="6327000" y="4910040"/>
              <a:ext cx="0" cy="8856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Line 29"/>
            <p:cNvSpPr/>
            <p:nvPr/>
          </p:nvSpPr>
          <p:spPr>
            <a:xfrm flipV="1">
              <a:off x="9374040" y="4910040"/>
              <a:ext cx="0" cy="8856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Line 20"/>
            <p:cNvSpPr/>
            <p:nvPr/>
          </p:nvSpPr>
          <p:spPr>
            <a:xfrm>
              <a:off x="3200400" y="247788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Line 20"/>
            <p:cNvSpPr/>
            <p:nvPr/>
          </p:nvSpPr>
          <p:spPr>
            <a:xfrm>
              <a:off x="3200400" y="308592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>
              <a:off x="3200400" y="3693960"/>
              <a:ext cx="81720" cy="0"/>
            </a:xfrm>
            <a:prstGeom prst="line">
              <a:avLst/>
            </a:prstGeom>
            <a:ln w="28440">
              <a:solidFill>
                <a:srgbClr val="1d1d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3121200" y="1382760"/>
            <a:ext cx="63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improvement rate at the end of the treatment peri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67"/>
          <p:cNvSpPr/>
          <p:nvPr/>
        </p:nvSpPr>
        <p:spPr>
          <a:xfrm>
            <a:off x="2717640" y="200448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68"/>
          <p:cNvSpPr/>
          <p:nvPr/>
        </p:nvSpPr>
        <p:spPr>
          <a:xfrm>
            <a:off x="2717640" y="230400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69"/>
          <p:cNvSpPr/>
          <p:nvPr/>
        </p:nvSpPr>
        <p:spPr>
          <a:xfrm>
            <a:off x="2717640" y="2611800"/>
            <a:ext cx="4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70"/>
          <p:cNvSpPr/>
          <p:nvPr/>
        </p:nvSpPr>
        <p:spPr>
          <a:xfrm>
            <a:off x="9374040" y="1919160"/>
            <a:ext cx="21844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oderately impro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rkedly impro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9282240" y="2035080"/>
            <a:ext cx="108000" cy="108000"/>
          </a:xfrm>
          <a:prstGeom prst="rect">
            <a:avLst/>
          </a:prstGeom>
          <a:solidFill>
            <a:srgbClr val="849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74"/>
          <p:cNvSpPr/>
          <p:nvPr/>
        </p:nvSpPr>
        <p:spPr>
          <a:xfrm>
            <a:off x="9282240" y="2354400"/>
            <a:ext cx="108000" cy="107640"/>
          </a:xfrm>
          <a:prstGeom prst="rect">
            <a:avLst/>
          </a:prstGeom>
          <a:solidFill>
            <a:srgbClr val="999a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75"/>
          <p:cNvSpPr/>
          <p:nvPr/>
        </p:nvSpPr>
        <p:spPr>
          <a:xfrm>
            <a:off x="9282240" y="2676600"/>
            <a:ext cx="108000" cy="108000"/>
          </a:xfrm>
          <a:prstGeom prst="rect">
            <a:avLst/>
          </a:prstGeom>
          <a:solidFill>
            <a:srgbClr val="333f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51"/>
          <p:cNvSpPr/>
          <p:nvPr/>
        </p:nvSpPr>
        <p:spPr>
          <a:xfrm>
            <a:off x="9074160" y="2035080"/>
            <a:ext cx="108000" cy="108000"/>
          </a:xfrm>
          <a:prstGeom prst="rect">
            <a:avLst/>
          </a:pr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52"/>
          <p:cNvSpPr/>
          <p:nvPr/>
        </p:nvSpPr>
        <p:spPr>
          <a:xfrm>
            <a:off x="9074160" y="2354400"/>
            <a:ext cx="108000" cy="1076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53"/>
          <p:cNvSpPr/>
          <p:nvPr/>
        </p:nvSpPr>
        <p:spPr>
          <a:xfrm>
            <a:off x="9074160" y="2676600"/>
            <a:ext cx="108000" cy="10800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095880" y="643860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Nakagawa H..Clin Drug Investig. 2006;26(5):235-4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07880" y="5775120"/>
            <a:ext cx="638496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panese adults (≥16 years; n=181) with moderate or severe atopic dermatitis on the trunk and extremities; Treatments administered twice daily for 3 weeks; Data for patients showing at least moderate improvement; efficacy ana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07520" y="150840"/>
            <a:ext cx="11363400" cy="106992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acrolimus 0.1% ointment has comparable efficacy to a mid-potent TCS (betamethasone valerate 0.1% ointment) in ad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407880" y="4297320"/>
            <a:ext cx="11376000" cy="1976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rolimus targets the underlying disease in AD skin by acting on immune system dysfunction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880" indent="-257040" algn="just">
              <a:lnSpc>
                <a:spcPct val="100000"/>
              </a:lnSpc>
              <a:spcAft>
                <a:spcPts val="601"/>
              </a:spcAft>
              <a:buClr>
                <a:srgbClr val="4472c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skin inflammation (via reduced infiltration of dermal inflammatory cells) correlates with improvements in clinical conditio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0E9-A80C-4641-9EA4-02270AF093BF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2"/>
          <p:cNvSpPr/>
          <p:nvPr/>
        </p:nvSpPr>
        <p:spPr>
          <a:xfrm>
            <a:off x="331920" y="6434280"/>
            <a:ext cx="4917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7512120" y="1549440"/>
            <a:ext cx="960480" cy="91584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16"/>
          <p:cNvSpPr/>
          <p:nvPr/>
        </p:nvSpPr>
        <p:spPr>
          <a:xfrm>
            <a:off x="7416720" y="1214280"/>
            <a:ext cx="17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8ac6dc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2668680" y="2454120"/>
            <a:ext cx="3213000" cy="1618560"/>
            <a:chOff x="2668680" y="2454120"/>
            <a:chExt cx="3213000" cy="1618560"/>
          </a:xfrm>
        </p:grpSpPr>
        <p:sp>
          <p:nvSpPr>
            <p:cNvPr id="661" name="AutoShape 8"/>
            <p:cNvSpPr/>
            <p:nvPr/>
          </p:nvSpPr>
          <p:spPr>
            <a:xfrm>
              <a:off x="2668680" y="2543040"/>
              <a:ext cx="3213000" cy="1438560"/>
            </a:xfrm>
            <a:prstGeom prst="roundRect">
              <a:avLst>
                <a:gd name="adj" fmla="val 6676"/>
              </a:avLst>
            </a:prstGeom>
            <a:noFill/>
            <a:ln w="28440">
              <a:solidFill>
                <a:srgbClr val="8ac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Text Box 9"/>
            <p:cNvSpPr/>
            <p:nvPr/>
          </p:nvSpPr>
          <p:spPr>
            <a:xfrm>
              <a:off x="4068720" y="2454120"/>
              <a:ext cx="1771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83839"/>
                  </a:solidFill>
                  <a:latin typeface="Arial"/>
                  <a:ea typeface="Arial"/>
                </a:rPr>
                <a:t>No reduction </a:t>
              </a:r>
              <a:br>
                <a:rPr sz="2000"/>
              </a:br>
              <a:r>
                <a:rPr b="0" lang="en-GB" sz="2000" spc="-1" strike="noStrike">
                  <a:solidFill>
                    <a:srgbClr val="383839"/>
                  </a:solidFill>
                  <a:latin typeface="Arial"/>
                  <a:ea typeface="Arial"/>
                </a:rPr>
                <a:t>in markers of </a:t>
              </a:r>
              <a:br>
                <a:rPr sz="2000"/>
              </a:br>
              <a:r>
                <a:rPr b="0" lang="en-GB" sz="2000" spc="-1" strike="noStrike">
                  <a:solidFill>
                    <a:srgbClr val="383839"/>
                  </a:solidFill>
                  <a:latin typeface="Arial"/>
                  <a:ea typeface="Arial"/>
                </a:rPr>
                <a:t>collagen synthesis in the skin</a:t>
              </a:r>
              <a:r>
                <a:rPr b="0" lang="en-GB" sz="2000" spc="-1" strike="noStrike" baseline="30000">
                  <a:solidFill>
                    <a:srgbClr val="383839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10"/>
            <p:cNvGrpSpPr/>
            <p:nvPr/>
          </p:nvGrpSpPr>
          <p:grpSpPr>
            <a:xfrm>
              <a:off x="2834640" y="2541240"/>
              <a:ext cx="1176480" cy="1098720"/>
              <a:chOff x="2834640" y="2541240"/>
              <a:chExt cx="1176480" cy="1098720"/>
            </a:xfrm>
          </p:grpSpPr>
          <p:pic>
            <p:nvPicPr>
              <p:cNvPr id="664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5720" y="2661840"/>
                <a:ext cx="1072080" cy="9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5" name="Line 12"/>
              <p:cNvSpPr/>
              <p:nvPr/>
            </p:nvSpPr>
            <p:spPr>
              <a:xfrm>
                <a:off x="3189240" y="2768400"/>
                <a:ext cx="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Line 13"/>
              <p:cNvSpPr/>
              <p:nvPr/>
            </p:nvSpPr>
            <p:spPr>
              <a:xfrm>
                <a:off x="3385800" y="2774520"/>
                <a:ext cx="0" cy="33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Line 14"/>
              <p:cNvSpPr/>
              <p:nvPr/>
            </p:nvSpPr>
            <p:spPr>
              <a:xfrm>
                <a:off x="3613680" y="2770920"/>
                <a:ext cx="0" cy="17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Text Box 15"/>
              <p:cNvSpPr/>
              <p:nvPr/>
            </p:nvSpPr>
            <p:spPr>
              <a:xfrm>
                <a:off x="2834640" y="2541240"/>
                <a:ext cx="117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e97d00"/>
                    </a:solidFill>
                    <a:latin typeface="Arial"/>
                    <a:ea typeface="Arial"/>
                  </a:rPr>
                  <a:t>Procollage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Group 17"/>
          <p:cNvGrpSpPr/>
          <p:nvPr/>
        </p:nvGrpSpPr>
        <p:grpSpPr>
          <a:xfrm>
            <a:off x="6273720" y="2556000"/>
            <a:ext cx="3213360" cy="1404720"/>
            <a:chOff x="6273720" y="2556000"/>
            <a:chExt cx="3213360" cy="1404720"/>
          </a:xfrm>
        </p:grpSpPr>
        <p:grpSp>
          <p:nvGrpSpPr>
            <p:cNvPr id="670" name="Group 18"/>
            <p:cNvGrpSpPr/>
            <p:nvPr/>
          </p:nvGrpSpPr>
          <p:grpSpPr>
            <a:xfrm>
              <a:off x="8037360" y="2719440"/>
              <a:ext cx="1057680" cy="891360"/>
              <a:chOff x="8037360" y="2719440"/>
              <a:chExt cx="1057680" cy="891360"/>
            </a:xfrm>
          </p:grpSpPr>
          <p:grpSp>
            <p:nvGrpSpPr>
              <p:cNvPr id="671" name="Group 19"/>
              <p:cNvGrpSpPr/>
              <p:nvPr/>
            </p:nvGrpSpPr>
            <p:grpSpPr>
              <a:xfrm>
                <a:off x="8037360" y="2719440"/>
                <a:ext cx="1057680" cy="891360"/>
                <a:chOff x="8037360" y="2719440"/>
                <a:chExt cx="1057680" cy="891360"/>
              </a:xfrm>
            </p:grpSpPr>
            <p:pic>
              <p:nvPicPr>
                <p:cNvPr id="672" name="Pictur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572320" y="3208680"/>
                  <a:ext cx="522720" cy="40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Pictur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37360" y="2719440"/>
                  <a:ext cx="5043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74" name="Line 22"/>
              <p:cNvSpPr/>
              <p:nvPr/>
            </p:nvSpPr>
            <p:spPr>
              <a:xfrm>
                <a:off x="8823600" y="2766240"/>
                <a:ext cx="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75" name="Text Box 23"/>
            <p:cNvSpPr/>
            <p:nvPr/>
          </p:nvSpPr>
          <p:spPr>
            <a:xfrm>
              <a:off x="6330600" y="2593800"/>
              <a:ext cx="160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83839"/>
                  </a:solidFill>
                  <a:latin typeface="Arial"/>
                  <a:ea typeface="Arial"/>
                </a:rPr>
                <a:t>No reduction in skin thickness</a:t>
              </a:r>
              <a:r>
                <a:rPr b="0" lang="en-GB" sz="2000" spc="-1" strike="noStrike" baseline="30000">
                  <a:solidFill>
                    <a:srgbClr val="383839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AutoShape 24"/>
            <p:cNvSpPr/>
            <p:nvPr/>
          </p:nvSpPr>
          <p:spPr>
            <a:xfrm>
              <a:off x="6273720" y="2556000"/>
              <a:ext cx="3213360" cy="1404720"/>
            </a:xfrm>
            <a:prstGeom prst="roundRect">
              <a:avLst>
                <a:gd name="adj" fmla="val 6806"/>
              </a:avLst>
            </a:prstGeom>
            <a:noFill/>
            <a:ln w="28440">
              <a:solidFill>
                <a:srgbClr val="8ac6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7" name="Text Box 26"/>
          <p:cNvSpPr/>
          <p:nvPr/>
        </p:nvSpPr>
        <p:spPr>
          <a:xfrm>
            <a:off x="7991640" y="2390760"/>
            <a:ext cx="11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8ac6dc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2949480" y="2481120"/>
            <a:ext cx="11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8ac6dc"/>
                </a:solidFill>
                <a:latin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Placeholder 3"/>
          <p:cNvSpPr/>
          <p:nvPr/>
        </p:nvSpPr>
        <p:spPr>
          <a:xfrm>
            <a:off x="2668680" y="1563840"/>
            <a:ext cx="40320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Aft>
                <a:spcPts val="601"/>
              </a:spcAft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rolimus ointment does not cause skin atroph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840280" y="6273720"/>
            <a:ext cx="5943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Reitamo S, et al. J Invest Dermatol. 1998;111(3):396-8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imon D, et al. J Allergy Clin Immunol. 2004;114(4):887-9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직사각형 31"/>
          <p:cNvSpPr/>
          <p:nvPr/>
        </p:nvSpPr>
        <p:spPr>
          <a:xfrm>
            <a:off x="3600" y="-1440"/>
            <a:ext cx="779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55555"/>
                </a:solidFill>
                <a:latin typeface="Arial"/>
                <a:ea typeface="굴림"/>
              </a:rPr>
              <a:t>MAT-0990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07520" y="7920"/>
            <a:ext cx="11363400" cy="134784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crolimus demonstrates beneficial effects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n the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crolimus 0.1% vs Tacrolimus 0.0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838080" y="18270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rolimus 0.1% is more effective than tacrolimus 0.03% in improving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’s assessment of global response (RR=0.82, 95% CI 0.72 to 0.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 (p=0.006 in children and p&lt;0.001 in adul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BC3A-FB26-4F09-B5C0-2F7D08C0B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imecrolimus 1% cream (Elidel</a:t>
            </a:r>
            <a:r>
              <a:rPr b="1" lang="en-US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002D-17AF-4736-8947-E38502734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https://www.dowa.co/content/images/thumbs/0005460_elidel-cream-1-30gm.png"/>
          <p:cNvPicPr/>
          <p:nvPr/>
        </p:nvPicPr>
        <p:blipFill>
          <a:blip r:embed="rId1"/>
          <a:srcRect l="0" t="17350" r="0" b="2191"/>
          <a:stretch/>
        </p:blipFill>
        <p:spPr>
          <a:xfrm>
            <a:off x="2438280" y="1844640"/>
            <a:ext cx="71024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: mode of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4"/>
          <p:cNvSpPr/>
          <p:nvPr/>
        </p:nvSpPr>
        <p:spPr>
          <a:xfrm>
            <a:off x="204840" y="6272280"/>
            <a:ext cx="59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Graham-Brown RA, et al. Int J Clin Pract. 2003;57(4):319-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rassberger M, et al. Exp Dermatol. 2004 Dec;13(12):721-3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623880" y="1490760"/>
            <a:ext cx="10779120" cy="4803840"/>
          </a:xfrm>
          <a:prstGeom prst="rect">
            <a:avLst/>
          </a:prstGeom>
          <a:ln w="0">
            <a:noFill/>
          </a:ln>
        </p:spPr>
      </p:pic>
      <p:sp>
        <p:nvSpPr>
          <p:cNvPr id="69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6D3F-6B08-4DA5-A9FA-91B3D31B8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ficacy of Pimecrol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38080" y="1828440"/>
            <a:ext cx="105156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mecrolimus 1% cream is significantly more effective in improving flares and QoL compared with vehicle at 6 weeks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it is less effective than triamcinolone acetonide 0.1% on similar outcomes at 6 months (RR=0.89, 95% CI 0.83 to 0.96)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. Ashcroft DM, et al. Cochrane Database Syst Rev. 2007; (4):CD0055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E8D2-A4D3-419B-A87A-E8200102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reduces AD flares in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"/>
          <p:cNvSpPr/>
          <p:nvPr/>
        </p:nvSpPr>
        <p:spPr>
          <a:xfrm>
            <a:off x="95400" y="6245280"/>
            <a:ext cx="650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urgeirsson B, et al. J Eur Acad Dermatol Venereol. 2008;22(11):1290-3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hn U, et a.. Pediatrics. 2002 Jul;110(1 Pt 1):e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ZoneTexte 5"/>
          <p:cNvSpPr/>
          <p:nvPr/>
        </p:nvSpPr>
        <p:spPr>
          <a:xfrm>
            <a:off x="6519960" y="1892160"/>
            <a:ext cx="537372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Children treated wi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* (n=252) ha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50% fewer fla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an patients who received the vehicle cream (n=263)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Children on 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we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are-free for a longer period of 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(&gt;190 days) than those on vehicle cream (59 days)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sults were confirmed in a second 1-year study in children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*Children were clear/almost clear of disease befor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del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or vehicle cream. Treatment started at the first signs of recurring 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ZoneTexte 7"/>
          <p:cNvSpPr/>
          <p:nvPr/>
        </p:nvSpPr>
        <p:spPr>
          <a:xfrm>
            <a:off x="6543720" y="1382760"/>
            <a:ext cx="556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ide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compared to vehic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Imagen 4" descr=""/>
          <p:cNvPicPr/>
          <p:nvPr/>
        </p:nvPicPr>
        <p:blipFill>
          <a:blip r:embed="rId1"/>
          <a:stretch/>
        </p:blipFill>
        <p:spPr>
          <a:xfrm>
            <a:off x="638280" y="1714680"/>
            <a:ext cx="5661000" cy="4430520"/>
          </a:xfrm>
          <a:prstGeom prst="rect">
            <a:avLst/>
          </a:prstGeom>
          <a:ln w="0">
            <a:noFill/>
          </a:ln>
        </p:spPr>
      </p:pic>
      <p:sp>
        <p:nvSpPr>
          <p:cNvPr id="70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EE7-76FD-4DAF-B70D-46A5FB9E8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reduces AD flares </a:t>
            </a:r>
            <a:r>
              <a:rPr b="1" i="1" lang="en-GB" sz="4400" spc="-1" strike="noStrike">
                <a:solidFill>
                  <a:srgbClr val="ffffff"/>
                </a:solidFill>
                <a:latin typeface="Arial"/>
              </a:rPr>
              <a:t>in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oneTexte 5"/>
          <p:cNvSpPr/>
          <p:nvPr/>
        </p:nvSpPr>
        <p:spPr>
          <a:xfrm>
            <a:off x="6346800" y="1781280"/>
            <a:ext cx="554688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Adul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treated with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* (n=269) ha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6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% fewer fla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than patients who received the vehicle cream (n=260)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Adul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on 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we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flare-free for a longer period of ti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(&gt;190 days) than those on vehicle cream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6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days)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sults were confirmed in a second study in adult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dults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ere clear/almost clear of disease before us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de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vehicle cream. Treatment started at the first signs of recurring 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ZoneTexte 7"/>
          <p:cNvSpPr/>
          <p:nvPr/>
        </p:nvSpPr>
        <p:spPr>
          <a:xfrm>
            <a:off x="6645240" y="1368360"/>
            <a:ext cx="554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lide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compared to vehic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6"/>
          <p:cNvSpPr/>
          <p:nvPr/>
        </p:nvSpPr>
        <p:spPr>
          <a:xfrm>
            <a:off x="150840" y="6272280"/>
            <a:ext cx="59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ollnick H, et al. Br J Dermatol. 2008;158(5):1083-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urer M, et al. Dermatology. 2002;205(3):271-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Imagen 5" descr=""/>
          <p:cNvPicPr/>
          <p:nvPr/>
        </p:nvPicPr>
        <p:blipFill>
          <a:blip r:embed="rId1"/>
          <a:stretch/>
        </p:blipFill>
        <p:spPr>
          <a:xfrm>
            <a:off x="638280" y="1755720"/>
            <a:ext cx="5661000" cy="443232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47E-1CB5-4A66-9A54-526F09C73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62040" y="1553760"/>
            <a:ext cx="1094112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pdate on steroid-free treatment option for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6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45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823B-944E-471B-86C4-FF71F4E7C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rapidly reduces prur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ZoneTexte 5"/>
          <p:cNvSpPr/>
          <p:nvPr/>
        </p:nvSpPr>
        <p:spPr>
          <a:xfrm>
            <a:off x="531720" y="5002200"/>
            <a:ext cx="11190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70ad4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Pruritus improved rapidly (on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day of treatment) following treatment with 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in adult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,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and in children and adolescents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70ad4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More than 56% of patients 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experienced relief from itching within 48 h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55"/>
          <p:cNvSpPr/>
          <p:nvPr/>
        </p:nvSpPr>
        <p:spPr>
          <a:xfrm>
            <a:off x="101520" y="6253200"/>
            <a:ext cx="1031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aufmann R, et al. Allergy. 2006;61(3):375-81                 2. Meurer M, et al. Dermatology. 2004;208(4):365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Fowler J, et al. Cutis. 2007 Jan;79(1):65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Imagen 4" descr=""/>
          <p:cNvPicPr/>
          <p:nvPr/>
        </p:nvPicPr>
        <p:blipFill>
          <a:blip r:embed="rId1"/>
          <a:stretch/>
        </p:blipFill>
        <p:spPr>
          <a:xfrm>
            <a:off x="635040" y="1577880"/>
            <a:ext cx="10837800" cy="332748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FBB5-3529-4FC3-B397-8B21E0953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does not cause skin atr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ZoneTexte 3"/>
          <p:cNvSpPr/>
          <p:nvPr/>
        </p:nvSpPr>
        <p:spPr>
          <a:xfrm>
            <a:off x="660240" y="1650960"/>
            <a:ext cx="1095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does not induce skin atrophy,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-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like TCS which causes skin atroph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after short-term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within only 8 days)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Box 148"/>
          <p:cNvSpPr/>
          <p:nvPr/>
        </p:nvSpPr>
        <p:spPr>
          <a:xfrm>
            <a:off x="971640" y="6396120"/>
            <a:ext cx="1030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1. Queille-Roussel C, et al. Br J Dermatol 2001;144:507-13. 2. Aschoff R, et al. Exp Dermatol 2011;20:832-6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3. Jensen JM, et al. J Allergy Clin Immunol 2009;123:1124-33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feld 5"/>
          <p:cNvSpPr/>
          <p:nvPr/>
        </p:nvSpPr>
        <p:spPr>
          <a:xfrm>
            <a:off x="434880" y="6464160"/>
            <a:ext cx="54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phic adapted from Queille-Roussel et al. 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Imagen 3" descr=""/>
          <p:cNvPicPr/>
          <p:nvPr/>
        </p:nvPicPr>
        <p:blipFill>
          <a:blip r:embed="rId1"/>
          <a:stretch/>
        </p:blipFill>
        <p:spPr>
          <a:xfrm>
            <a:off x="1055520" y="2611440"/>
            <a:ext cx="10558800" cy="364968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D9B7-D98A-4E5E-835A-A1F1950A7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® is effective for sensitive ski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ZoneTexte 3"/>
          <p:cNvSpPr/>
          <p:nvPr/>
        </p:nvSpPr>
        <p:spPr>
          <a:xfrm>
            <a:off x="177840" y="1389240"/>
            <a:ext cx="11860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333f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74.5% of childr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were clear or almost clear of facial AD by week 6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treatment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333f5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47% of adult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were clear or almost clear of facial AD by week 6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treatment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Image 9" descr="088.png"/>
          <p:cNvPicPr/>
          <p:nvPr/>
        </p:nvPicPr>
        <p:blipFill>
          <a:blip r:embed="rId1"/>
          <a:stretch/>
        </p:blipFill>
        <p:spPr>
          <a:xfrm>
            <a:off x="7840800" y="2397240"/>
            <a:ext cx="4097160" cy="33400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46"/>
          <p:cNvSpPr/>
          <p:nvPr/>
        </p:nvSpPr>
        <p:spPr>
          <a:xfrm>
            <a:off x="163440" y="6259680"/>
            <a:ext cx="59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eger PH, et al. Br J Dermatol. 2009;160(2):415-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rrell DF, et al. Br J Dermatol. 2007;157(5):954-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Imagen 3" descr=""/>
          <p:cNvPicPr/>
          <p:nvPr/>
        </p:nvPicPr>
        <p:blipFill>
          <a:blip r:embed="rId2"/>
          <a:stretch/>
        </p:blipFill>
        <p:spPr>
          <a:xfrm>
            <a:off x="668160" y="2720880"/>
            <a:ext cx="7182000" cy="3456000"/>
          </a:xfrm>
          <a:prstGeom prst="rect">
            <a:avLst/>
          </a:prstGeom>
          <a:ln w="0">
            <a:noFill/>
          </a:ln>
        </p:spPr>
      </p:pic>
      <p:sp>
        <p:nvSpPr>
          <p:cNvPr id="725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4B12-BD46-4943-A86D-428F7D93E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Elidel® effectively clears eyelid dermat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838080" y="1828440"/>
            <a:ext cx="10515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idel® clears eyelid dermatitis in 44.6% patients vs 19.2% for vehicle-treated patients (p&lt;0.001).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oneTexte 7"/>
          <p:cNvSpPr/>
          <p:nvPr/>
        </p:nvSpPr>
        <p:spPr>
          <a:xfrm>
            <a:off x="1128600" y="5751360"/>
            <a:ext cx="47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AD eyelid befo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®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ZoneTexte 8"/>
          <p:cNvSpPr/>
          <p:nvPr/>
        </p:nvSpPr>
        <p:spPr>
          <a:xfrm>
            <a:off x="6492960" y="5751360"/>
            <a:ext cx="476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After 2 week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Elide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®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Calibri"/>
              </a:rPr>
              <a:t>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Image 10" descr="090.png"/>
          <p:cNvPicPr/>
          <p:nvPr/>
        </p:nvPicPr>
        <p:blipFill>
          <a:blip r:embed="rId1"/>
          <a:stretch/>
        </p:blipFill>
        <p:spPr>
          <a:xfrm>
            <a:off x="896760" y="3249720"/>
            <a:ext cx="10787400" cy="255276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11"/>
          <p:cNvSpPr/>
          <p:nvPr/>
        </p:nvSpPr>
        <p:spPr>
          <a:xfrm>
            <a:off x="1143000" y="4567320"/>
            <a:ext cx="477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Arial Narrow"/>
              </a:rPr>
              <a:t>Courtesy Prof. Micali, University of Catania, Ita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ZoneTexte 12"/>
          <p:cNvSpPr/>
          <p:nvPr/>
        </p:nvSpPr>
        <p:spPr>
          <a:xfrm>
            <a:off x="6492960" y="4567320"/>
            <a:ext cx="477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  <a:ea typeface="Arial Narrow"/>
              </a:rPr>
              <a:t>Courtesy Prof. Micali, University of Catania, Ita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5A32-05FF-4B58-8E36-BE04294ED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crolimus vs Pimecrol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838080" y="1829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rolimus 0.1% ointment is more effective than pimecrolimus 1% cream in AE of different severity at 6 weeks in terms of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’s assessment of global response (RR=1.80, 95% CI 1.34 to 2.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s’ global assessment (RR=0.58, 95% CI 0.46 to 0.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A and EASI (p&lt; 0.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rolimus 0.03% ointment is also more effective than pimecrolimus 1% cream in physician’s assessment of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obal response (RR=1.42, 95% CI 1.02 to 1.98).</a:t>
            </a:r>
            <a:r>
              <a:rPr b="0" lang="it-IT" sz="28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544-BF2D-4675-96CB-941715E9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407520" y="1488960"/>
            <a:ext cx="7263000" cy="35481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87000"/>
          </a:bodyPr>
          <a:p>
            <a:pPr marL="198720" indent="-19872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70c0"/>
                </a:solidFill>
                <a:latin typeface="Arial"/>
              </a:rPr>
              <a:t>Protopic® treated patients had significantly greater improvements in the EASI score </a:t>
            </a: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compared with pimecrolimus-treated patients (% reduction in EASI score: 57% vs 39% respectively; p=0.00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70c0"/>
                </a:solidFill>
                <a:latin typeface="Arial"/>
              </a:rPr>
              <a:t>Treatment success was also significantly greater among the Protopic®-treated patients </a:t>
            </a: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compared with pimecrolimus treated patients (40% vs 22% at study end; p=0.001), as was the improvement in percentage of total body surface area affected (a reduction of 49% vs 34% at study end; p=0.0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SG" sz="2000" spc="-1" strike="noStrike">
                <a:solidFill>
                  <a:srgbClr val="0070c0"/>
                </a:solidFill>
                <a:latin typeface="Arial"/>
              </a:rPr>
              <a:t>Protopic® and pimecrolimus have similar safety profile </a:t>
            </a: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– no significant differences in the incidences of adverse events, including application-site burning and pruri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000000"/>
                </a:solidFill>
                <a:latin typeface="Arial"/>
              </a:rPr>
              <a:t>Significantly more pimecrolimus treated patients withdrew from the study due to lack of effic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E65-BA88-4238-AB40-A5E8E4EA25E5}" type="slidenum">
              <a:rPr b="0" lang="en-CA" sz="1400" spc="-1" strike="noStrike">
                <a:solidFill>
                  <a:srgbClr val="8ac6d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07520" y="5860800"/>
            <a:ext cx="7263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400" spc="-1" strike="noStrike">
                <a:solidFill>
                  <a:srgbClr val="000000"/>
                </a:solidFill>
                <a:latin typeface="Arial"/>
              </a:rPr>
              <a:t>Fleischer 2007 compared the efficacy and safety of tacrolimus ointment 0.1% and pimecrolimus cream 1% in adult patients with moderate to very severe atopic dermatitis. A total of 281 patients (141 treated with tacrolimus and 140 treated with pimecrolimus) were randomised to a multicenter, investigator-blinded, 6-week stud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410160" y="652104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leischer AB Jr, et al. J Dermatolog Treat. 2007;18(3):1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"/>
          <p:cNvPicPr/>
          <p:nvPr/>
        </p:nvPicPr>
        <p:blipFill>
          <a:blip r:embed="rId1"/>
          <a:stretch/>
        </p:blipFill>
        <p:spPr>
          <a:xfrm>
            <a:off x="7556400" y="2055960"/>
            <a:ext cx="4114800" cy="3157560"/>
          </a:xfrm>
          <a:prstGeom prst="rect">
            <a:avLst/>
          </a:prstGeom>
          <a:ln w="0">
            <a:noFill/>
          </a:ln>
        </p:spPr>
      </p:pic>
      <p:sp>
        <p:nvSpPr>
          <p:cNvPr id="742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93480" y="207720"/>
            <a:ext cx="11474280" cy="84132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200" spc="-1" strike="noStrike">
                <a:solidFill>
                  <a:srgbClr val="ffffff"/>
                </a:solidFill>
                <a:latin typeface="Arial"/>
              </a:rPr>
              <a:t>Protopic</a:t>
            </a:r>
            <a:r>
              <a:rPr b="1" lang="en-SG" sz="3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SG" sz="3200" spc="-1" strike="noStrike">
                <a:solidFill>
                  <a:srgbClr val="ffffff"/>
                </a:solidFill>
                <a:latin typeface="Arial"/>
              </a:rPr>
              <a:t> is significantly more effective than pimecroli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dverse Effects of T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adverse effects of TCIs are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4-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ur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0862-EA37-4890-BD16-094560B57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407880" y="1542960"/>
            <a:ext cx="11376000" cy="4608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Arial"/>
              </a:rPr>
              <a:t>There were no significant differences in the incidence of adverse events (AE) between Protopic® and pimecrolimus treated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Arial"/>
              </a:rPr>
              <a:t>AEs reported in both treatment groups were mild in severity and rarely led to treatment discontin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DE96-F8DF-4BFA-B631-77FD012D6EA0}" type="slidenum">
              <a:rPr b="0" lang="en-CA" sz="1400" spc="-1" strike="noStrike">
                <a:solidFill>
                  <a:srgbClr val="8ac6d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3" descr=""/>
          <p:cNvPicPr/>
          <p:nvPr/>
        </p:nvPicPr>
        <p:blipFill>
          <a:blip r:embed="rId1"/>
          <a:stretch/>
        </p:blipFill>
        <p:spPr>
          <a:xfrm>
            <a:off x="930240" y="3244680"/>
            <a:ext cx="10248840" cy="3490920"/>
          </a:xfrm>
          <a:prstGeom prst="rect">
            <a:avLst/>
          </a:prstGeom>
          <a:ln w="0">
            <a:noFill/>
          </a:ln>
        </p:spPr>
      </p:pic>
      <p:sp>
        <p:nvSpPr>
          <p:cNvPr id="750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07520" y="444600"/>
            <a:ext cx="11363400" cy="4521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 fontScale="7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200" spc="-1" strike="noStrike">
                <a:solidFill>
                  <a:srgbClr val="ffffff"/>
                </a:solidFill>
                <a:latin typeface="Arial"/>
              </a:rPr>
              <a:t>Safety profiles are similar for Protopic® and pimecroli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07120" y="631800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aller AS, et al. J Am Acad Dermatol. 2005;52(5):810-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active Treatment with Tacrol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38080" y="1843200"/>
            <a:ext cx="10515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active treatment with tacrolimus 0.1% and 0.03% used 2 - 3 times weekly for 40 - 52 weeks as maintenance therapy significantly prevented, delayed and reduced mild to severe AE f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23FD-D78C-4CE2-A9D3-CF78AA80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169920" y="4602240"/>
            <a:ext cx="118584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27E6-8816-49D5-8E0B-7EAAC8DC9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1"/>
          <a:stretch/>
        </p:blipFill>
        <p:spPr>
          <a:xfrm>
            <a:off x="525600" y="2921040"/>
            <a:ext cx="1131228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62040" y="1553760"/>
            <a:ext cx="109411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al calcineurin inhibitors (TCIs) are non-steroidal immune-modulating agents for the treatment of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formulations available: tacrolimus and pimecroli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sed to be used in patients older than 2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353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afety studies are needed before recommending its use in patients younger than 2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6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opical Calcineurin Inhibitors (TCIs)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45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73C-303C-4F87-81E6-60A8F28B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7696-7A97-4A48-9582-387CEBF9D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crolimus ointment 0.1% and 0.03% (Protopic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BA22-B4AF-4A15-9F42-398BCA01D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198360" y="1638360"/>
            <a:ext cx="5780160" cy="43354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Image result for protopic malaysia leo"/>
          <p:cNvPicPr/>
          <p:nvPr/>
        </p:nvPicPr>
        <p:blipFill>
          <a:blip r:embed="rId2"/>
          <a:stretch/>
        </p:blipFill>
        <p:spPr>
          <a:xfrm>
            <a:off x="6202440" y="1638360"/>
            <a:ext cx="57816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36"/>
          <p:cNvGrpSpPr/>
          <p:nvPr/>
        </p:nvGrpSpPr>
        <p:grpSpPr>
          <a:xfrm>
            <a:off x="5718240" y="3165480"/>
            <a:ext cx="2970000" cy="2430360"/>
            <a:chOff x="5718240" y="3165480"/>
            <a:chExt cx="2970000" cy="2430360"/>
          </a:xfrm>
        </p:grpSpPr>
        <p:sp>
          <p:nvSpPr>
            <p:cNvPr id="465" name="Oval 13"/>
            <p:cNvSpPr/>
            <p:nvPr/>
          </p:nvSpPr>
          <p:spPr>
            <a:xfrm>
              <a:off x="5718240" y="3165480"/>
              <a:ext cx="2452680" cy="2430360"/>
            </a:xfrm>
            <a:prstGeom prst="ellipse">
              <a:avLst/>
            </a:prstGeom>
            <a:solidFill>
              <a:srgbClr val="57b3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Text Box 14"/>
            <p:cNvSpPr/>
            <p:nvPr/>
          </p:nvSpPr>
          <p:spPr>
            <a:xfrm>
              <a:off x="5883120" y="4452840"/>
              <a:ext cx="28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3864"/>
                  </a:solidFill>
                  <a:latin typeface="Arial"/>
                  <a:ea typeface="MS PGothic"/>
                </a:rPr>
                <a:t>Immune system </a:t>
              </a:r>
              <a:br>
                <a:rPr sz="1400"/>
              </a:br>
              <a:r>
                <a:rPr b="1" lang="en-US" sz="1400" spc="-1" strike="noStrike">
                  <a:solidFill>
                    <a:srgbClr val="203864"/>
                  </a:solidFill>
                  <a:latin typeface="Arial"/>
                  <a:ea typeface="MS PGothic"/>
                </a:rPr>
                <a:t>dysfun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Group 35"/>
          <p:cNvGrpSpPr/>
          <p:nvPr/>
        </p:nvGrpSpPr>
        <p:grpSpPr>
          <a:xfrm>
            <a:off x="3511440" y="3146400"/>
            <a:ext cx="3009960" cy="2430360"/>
            <a:chOff x="3511440" y="3146400"/>
            <a:chExt cx="3009960" cy="2430360"/>
          </a:xfrm>
        </p:grpSpPr>
        <p:sp>
          <p:nvSpPr>
            <p:cNvPr id="468" name="Oval 12"/>
            <p:cNvSpPr/>
            <p:nvPr/>
          </p:nvSpPr>
          <p:spPr>
            <a:xfrm>
              <a:off x="4066920" y="3146400"/>
              <a:ext cx="2454480" cy="2430360"/>
            </a:xfrm>
            <a:prstGeom prst="ellipse">
              <a:avLst/>
            </a:prstGeom>
            <a:solidFill>
              <a:srgbClr val="57b3e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Text Box 3"/>
            <p:cNvSpPr/>
            <p:nvPr/>
          </p:nvSpPr>
          <p:spPr>
            <a:xfrm>
              <a:off x="3511440" y="3722400"/>
              <a:ext cx="280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3864"/>
                  </a:solidFill>
                  <a:latin typeface="Arial"/>
                  <a:ea typeface="MS PGothic"/>
                </a:rPr>
                <a:t>Skin barrier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03864"/>
                  </a:solidFill>
                  <a:latin typeface="Arial"/>
                  <a:ea typeface="MS PGothic"/>
                </a:rPr>
                <a:t>dysfun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Group 34"/>
          <p:cNvGrpSpPr/>
          <p:nvPr/>
        </p:nvGrpSpPr>
        <p:grpSpPr>
          <a:xfrm>
            <a:off x="5710320" y="3160800"/>
            <a:ext cx="2971800" cy="2430360"/>
            <a:chOff x="5710320" y="3160800"/>
            <a:chExt cx="2971800" cy="2430360"/>
          </a:xfrm>
        </p:grpSpPr>
        <p:sp>
          <p:nvSpPr>
            <p:cNvPr id="471" name="Oval 13"/>
            <p:cNvSpPr/>
            <p:nvPr/>
          </p:nvSpPr>
          <p:spPr>
            <a:xfrm>
              <a:off x="5710320" y="3160800"/>
              <a:ext cx="2454480" cy="2430360"/>
            </a:xfrm>
            <a:prstGeom prst="ellipse">
              <a:avLst/>
            </a:prstGeom>
            <a:solidFill>
              <a:srgbClr val="e20d7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Text Box 14"/>
            <p:cNvSpPr/>
            <p:nvPr/>
          </p:nvSpPr>
          <p:spPr>
            <a:xfrm>
              <a:off x="5875200" y="4448160"/>
              <a:ext cx="280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20d79"/>
                  </a:solidFill>
                  <a:latin typeface="Arial"/>
                  <a:ea typeface="MS PGothic"/>
                </a:rPr>
                <a:t>Immune system </a:t>
              </a:r>
              <a:br>
                <a:rPr sz="1400"/>
              </a:br>
              <a:r>
                <a:rPr b="1" lang="en-US" sz="1400" spc="-1" strike="noStrike">
                  <a:solidFill>
                    <a:srgbClr val="e20d79"/>
                  </a:solidFill>
                  <a:latin typeface="Arial"/>
                  <a:ea typeface="MS PGothic"/>
                </a:rPr>
                <a:t>dysfun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Group 32"/>
          <p:cNvGrpSpPr/>
          <p:nvPr/>
        </p:nvGrpSpPr>
        <p:grpSpPr>
          <a:xfrm>
            <a:off x="3505320" y="3139920"/>
            <a:ext cx="3008160" cy="2430720"/>
            <a:chOff x="3505320" y="3139920"/>
            <a:chExt cx="3008160" cy="2430720"/>
          </a:xfrm>
        </p:grpSpPr>
        <p:sp>
          <p:nvSpPr>
            <p:cNvPr id="474" name="Oval 12"/>
            <p:cNvSpPr/>
            <p:nvPr/>
          </p:nvSpPr>
          <p:spPr>
            <a:xfrm>
              <a:off x="4060800" y="3139920"/>
              <a:ext cx="2452680" cy="2430720"/>
            </a:xfrm>
            <a:prstGeom prst="ellipse">
              <a:avLst/>
            </a:prstGeom>
            <a:solidFill>
              <a:srgbClr val="e20d79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Text Box 3"/>
            <p:cNvSpPr/>
            <p:nvPr/>
          </p:nvSpPr>
          <p:spPr>
            <a:xfrm>
              <a:off x="3505320" y="3716280"/>
              <a:ext cx="28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20d79"/>
                  </a:solidFill>
                  <a:latin typeface="Arial"/>
                  <a:ea typeface="MS PGothic"/>
                </a:rPr>
                <a:t>Skin barrier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20d79"/>
                  </a:solidFill>
                  <a:latin typeface="Arial"/>
                  <a:ea typeface="MS PGothic"/>
                </a:rPr>
                <a:t>dysfuncti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Text Box 15"/>
          <p:cNvSpPr/>
          <p:nvPr/>
        </p:nvSpPr>
        <p:spPr>
          <a:xfrm>
            <a:off x="4702320" y="4098960"/>
            <a:ext cx="28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topic</a:t>
            </a:r>
            <a:br>
              <a:rPr sz="1200"/>
            </a:b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ermat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07880" y="1679400"/>
            <a:ext cx="11376000" cy="5011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barrier dysfunction, together with immune system hyperactivity, play important roles in the pathogenesis of AD and its treatmen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472c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ng-term strategy should address both aspects of the dis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A76-0FC3-4858-A5C1-C61584F01FCB}" type="slidenum">
              <a:rPr b="0" lang="en-US" sz="1400" spc="-1" strike="noStrike">
                <a:solidFill>
                  <a:srgbClr val="8ac6d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25440" y="643860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=atopic derm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081840" y="5408280"/>
            <a:ext cx="568800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343080" indent="-343080" algn="r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arsow U, et al. J Eur Acad Dermatol Venereol. 2005;19(3):286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Danby S, et al. J Clin Dermatol. 2010; 1:33–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co MJ, et al.Allergy Asthma Proc. 2002;23(3):19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Simpson D, et al. Drugs. 2005;65(6):827-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ollenberg A, et al. J Allergy Clin Immunol. 2001;107(3):519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7"/>
          <p:cNvSpPr/>
          <p:nvPr/>
        </p:nvSpPr>
        <p:spPr>
          <a:xfrm flipH="1" rot="708600">
            <a:off x="2957400" y="4267080"/>
            <a:ext cx="1116000" cy="1200240"/>
          </a:xfrm>
          <a:custGeom>
            <a:avLst/>
            <a:gdLst/>
            <a:ahLst/>
            <a:rect l="l" t="t" r="r" b="b"/>
            <a:pathLst>
              <a:path w="1882" h="2027">
                <a:moveTo>
                  <a:pt x="1882" y="2027"/>
                </a:moveTo>
                <a:lnTo>
                  <a:pt x="1740" y="1840"/>
                </a:lnTo>
                <a:lnTo>
                  <a:pt x="1882" y="1652"/>
                </a:lnTo>
                <a:cubicBezTo>
                  <a:pt x="1049" y="1652"/>
                  <a:pt x="374" y="977"/>
                  <a:pt x="374" y="145"/>
                </a:cubicBezTo>
                <a:lnTo>
                  <a:pt x="187" y="0"/>
                </a:lnTo>
                <a:lnTo>
                  <a:pt x="0" y="145"/>
                </a:lnTo>
                <a:cubicBezTo>
                  <a:pt x="0" y="1184"/>
                  <a:pt x="843" y="2027"/>
                  <a:pt x="1882" y="2027"/>
                </a:cubicBezTo>
                <a:close/>
              </a:path>
            </a:pathLst>
          </a:custGeom>
          <a:solidFill>
            <a:srgbClr val="57b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7"/>
          <p:cNvSpPr/>
          <p:nvPr/>
        </p:nvSpPr>
        <p:spPr>
          <a:xfrm flipH="1" rot="10800000">
            <a:off x="8058240" y="3179520"/>
            <a:ext cx="1116000" cy="1199880"/>
          </a:xfrm>
          <a:custGeom>
            <a:avLst/>
            <a:gdLst/>
            <a:ahLst/>
            <a:rect l="l" t="t" r="r" b="b"/>
            <a:pathLst>
              <a:path w="1882" h="2027">
                <a:moveTo>
                  <a:pt x="1882" y="2027"/>
                </a:moveTo>
                <a:lnTo>
                  <a:pt x="1740" y="1840"/>
                </a:lnTo>
                <a:lnTo>
                  <a:pt x="1882" y="1652"/>
                </a:lnTo>
                <a:cubicBezTo>
                  <a:pt x="1049" y="1652"/>
                  <a:pt x="374" y="977"/>
                  <a:pt x="374" y="145"/>
                </a:cubicBezTo>
                <a:lnTo>
                  <a:pt x="187" y="0"/>
                </a:lnTo>
                <a:lnTo>
                  <a:pt x="0" y="145"/>
                </a:lnTo>
                <a:cubicBezTo>
                  <a:pt x="0" y="1184"/>
                  <a:pt x="843" y="2027"/>
                  <a:pt x="1882" y="2027"/>
                </a:cubicBezTo>
                <a:close/>
              </a:path>
            </a:pathLst>
          </a:custGeom>
          <a:solidFill>
            <a:srgbClr val="57b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11"/>
          <p:cNvSpPr/>
          <p:nvPr/>
        </p:nvSpPr>
        <p:spPr>
          <a:xfrm>
            <a:off x="298440" y="4884840"/>
            <a:ext cx="267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cademy Sans"/>
                <a:ea typeface="Academy Sans"/>
              </a:rPr>
              <a:t>In addition to tackling skin barrier dys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33"/>
          <p:cNvSpPr/>
          <p:nvPr/>
        </p:nvSpPr>
        <p:spPr>
          <a:xfrm>
            <a:off x="9172440" y="3097080"/>
            <a:ext cx="2619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cademy Sans"/>
              </a:rPr>
              <a:t>Tacrolimus acts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points in the inflammatory cascade to address immune system dysfunc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,4,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cademy Sans"/>
                <a:ea typeface="Academy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itle 1"/>
          <p:cNvSpPr/>
          <p:nvPr/>
        </p:nvSpPr>
        <p:spPr>
          <a:xfrm>
            <a:off x="7920" y="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07520" y="92160"/>
            <a:ext cx="11363400" cy="11556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rolimus targets both skin barrier deficiency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une system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4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52C6-A601-4B3F-AD36-9DF8F097B1FC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17" descr="red dots"/>
          <p:cNvPicPr/>
          <p:nvPr/>
        </p:nvPicPr>
        <p:blipFill>
          <a:blip r:embed="rId1"/>
          <a:stretch/>
        </p:blipFill>
        <p:spPr>
          <a:xfrm>
            <a:off x="2678040" y="3311640"/>
            <a:ext cx="495360" cy="349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27"/>
          <p:cNvGrpSpPr/>
          <p:nvPr/>
        </p:nvGrpSpPr>
        <p:grpSpPr>
          <a:xfrm>
            <a:off x="8129520" y="3297240"/>
            <a:ext cx="665280" cy="534600"/>
            <a:chOff x="8129520" y="3297240"/>
            <a:chExt cx="665280" cy="534600"/>
          </a:xfrm>
        </p:grpSpPr>
        <p:pic>
          <p:nvPicPr>
            <p:cNvPr id="490" name="Picture 9" descr="1_2_2_2_11_ID4_T2G"/>
            <p:cNvPicPr/>
            <p:nvPr/>
          </p:nvPicPr>
          <p:blipFill>
            <a:blip r:embed="rId2"/>
            <a:srcRect l="-9708" t="0" r="-2512" b="-7582"/>
            <a:stretch/>
          </p:blipFill>
          <p:spPr>
            <a:xfrm>
              <a:off x="8129520" y="3317400"/>
              <a:ext cx="6652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125"/>
            <p:cNvSpPr/>
            <p:nvPr/>
          </p:nvSpPr>
          <p:spPr>
            <a:xfrm>
              <a:off x="8465040" y="3297240"/>
              <a:ext cx="10296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Rectangle 126"/>
            <p:cNvSpPr/>
            <p:nvPr/>
          </p:nvSpPr>
          <p:spPr>
            <a:xfrm>
              <a:off x="8637480" y="3312000"/>
              <a:ext cx="10296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Text Box 4"/>
          <p:cNvSpPr/>
          <p:nvPr/>
        </p:nvSpPr>
        <p:spPr>
          <a:xfrm>
            <a:off x="4721400" y="1851120"/>
            <a:ext cx="2893680" cy="3988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1f1f1"/>
                </a:solidFill>
                <a:latin typeface="Arial"/>
              </a:rPr>
              <a:t>Tacrolimus oin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5"/>
          <p:cNvGrpSpPr/>
          <p:nvPr/>
        </p:nvGrpSpPr>
        <p:grpSpPr>
          <a:xfrm>
            <a:off x="3027240" y="3301920"/>
            <a:ext cx="357480" cy="325440"/>
            <a:chOff x="3027240" y="3301920"/>
            <a:chExt cx="357480" cy="325440"/>
          </a:xfrm>
        </p:grpSpPr>
        <p:sp>
          <p:nvSpPr>
            <p:cNvPr id="495" name="Oval 6"/>
            <p:cNvSpPr/>
            <p:nvPr/>
          </p:nvSpPr>
          <p:spPr>
            <a:xfrm>
              <a:off x="3174840" y="3315960"/>
              <a:ext cx="54000" cy="48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Oval 7"/>
            <p:cNvSpPr/>
            <p:nvPr/>
          </p:nvSpPr>
          <p:spPr>
            <a:xfrm>
              <a:off x="3044160" y="3540240"/>
              <a:ext cx="54360" cy="48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Oval 8"/>
            <p:cNvSpPr/>
            <p:nvPr/>
          </p:nvSpPr>
          <p:spPr>
            <a:xfrm>
              <a:off x="3144600" y="3551040"/>
              <a:ext cx="52200" cy="48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Oval 9"/>
            <p:cNvSpPr/>
            <p:nvPr/>
          </p:nvSpPr>
          <p:spPr>
            <a:xfrm>
              <a:off x="3235320" y="3529080"/>
              <a:ext cx="52200" cy="48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9" name="Picture 13" descr="1_2_2_2_11_ID4_T2H"/>
            <p:cNvPicPr/>
            <p:nvPr/>
          </p:nvPicPr>
          <p:blipFill>
            <a:blip r:embed="rId3"/>
            <a:stretch/>
          </p:blipFill>
          <p:spPr>
            <a:xfrm>
              <a:off x="3027240" y="3301920"/>
              <a:ext cx="357480" cy="32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oup 66"/>
          <p:cNvGrpSpPr/>
          <p:nvPr/>
        </p:nvGrpSpPr>
        <p:grpSpPr>
          <a:xfrm>
            <a:off x="3672000" y="3179880"/>
            <a:ext cx="358200" cy="628560"/>
            <a:chOff x="3672000" y="3179880"/>
            <a:chExt cx="358200" cy="628560"/>
          </a:xfrm>
        </p:grpSpPr>
        <p:pic>
          <p:nvPicPr>
            <p:cNvPr id="501" name="Picture 13" descr="1_2_2_2_11_ID4_T2H"/>
            <p:cNvPicPr/>
            <p:nvPr/>
          </p:nvPicPr>
          <p:blipFill>
            <a:blip r:embed="rId4">
              <a:lum contrast="32000"/>
            </a:blip>
            <a:stretch/>
          </p:blipFill>
          <p:spPr>
            <a:xfrm>
              <a:off x="3672000" y="3483360"/>
              <a:ext cx="357120" cy="32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3" descr="1_2_2_2_11_ID4_T2H"/>
            <p:cNvPicPr/>
            <p:nvPr/>
          </p:nvPicPr>
          <p:blipFill>
            <a:blip r:embed="rId5">
              <a:lum bright="30000"/>
            </a:blip>
            <a:stretch/>
          </p:blipFill>
          <p:spPr>
            <a:xfrm>
              <a:off x="3674160" y="3179880"/>
              <a:ext cx="35604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Line 14"/>
          <p:cNvSpPr/>
          <p:nvPr/>
        </p:nvSpPr>
        <p:spPr>
          <a:xfrm>
            <a:off x="3967200" y="3486240"/>
            <a:ext cx="266760" cy="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16"/>
          <p:cNvSpPr/>
          <p:nvPr/>
        </p:nvSpPr>
        <p:spPr>
          <a:xfrm>
            <a:off x="3376440" y="3484440"/>
            <a:ext cx="2667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6" descr="1_2_2_2_11_ID4_T2C"/>
          <p:cNvPicPr/>
          <p:nvPr/>
        </p:nvPicPr>
        <p:blipFill>
          <a:blip r:embed="rId6"/>
          <a:stretch/>
        </p:blipFill>
        <p:spPr>
          <a:xfrm>
            <a:off x="5742000" y="3479760"/>
            <a:ext cx="588960" cy="407880"/>
          </a:xfrm>
          <a:prstGeom prst="rect">
            <a:avLst/>
          </a:prstGeom>
          <a:ln w="0">
            <a:noFill/>
          </a:ln>
        </p:spPr>
      </p:pic>
      <p:sp>
        <p:nvSpPr>
          <p:cNvPr id="506" name="Line 31"/>
          <p:cNvSpPr/>
          <p:nvPr/>
        </p:nvSpPr>
        <p:spPr>
          <a:xfrm flipH="1">
            <a:off x="6270120" y="3297240"/>
            <a:ext cx="227160" cy="128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47"/>
          <p:cNvSpPr/>
          <p:nvPr/>
        </p:nvSpPr>
        <p:spPr>
          <a:xfrm flipH="1">
            <a:off x="3435120" y="2409840"/>
            <a:ext cx="1361880" cy="65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49"/>
          <p:cNvSpPr/>
          <p:nvPr/>
        </p:nvSpPr>
        <p:spPr>
          <a:xfrm>
            <a:off x="7143840" y="2409840"/>
            <a:ext cx="133488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52"/>
          <p:cNvSpPr/>
          <p:nvPr/>
        </p:nvSpPr>
        <p:spPr>
          <a:xfrm>
            <a:off x="2373480" y="2212920"/>
            <a:ext cx="1784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vents the activation and proliferation of              T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507000" y="3436920"/>
            <a:ext cx="116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eading to decreased antigen recogn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7856640" y="2116080"/>
            <a:ext cx="2297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hibits release of inflammatory mediators, e.g. histamine from mast cells and basoph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48"/>
          <p:cNvSpPr/>
          <p:nvPr/>
        </p:nvSpPr>
        <p:spPr>
          <a:xfrm>
            <a:off x="6072120" y="240984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56"/>
          <p:cNvSpPr/>
          <p:nvPr/>
        </p:nvSpPr>
        <p:spPr>
          <a:xfrm>
            <a:off x="6022800" y="2390760"/>
            <a:ext cx="16704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ownregulates IgE receptors F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εRI on IDECs and Langerhans ce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3562200" y="3957480"/>
            <a:ext cx="4900320" cy="662040"/>
            <a:chOff x="3562200" y="3957480"/>
            <a:chExt cx="4900320" cy="662040"/>
          </a:xfrm>
        </p:grpSpPr>
        <p:sp>
          <p:nvSpPr>
            <p:cNvPr id="515" name="Line 58"/>
            <p:cNvSpPr/>
            <p:nvPr/>
          </p:nvSpPr>
          <p:spPr>
            <a:xfrm>
              <a:off x="6058440" y="3957480"/>
              <a:ext cx="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Line 59"/>
            <p:cNvSpPr/>
            <p:nvPr/>
          </p:nvSpPr>
          <p:spPr>
            <a:xfrm>
              <a:off x="3562200" y="3957480"/>
              <a:ext cx="171216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Line 60"/>
            <p:cNvSpPr/>
            <p:nvPr/>
          </p:nvSpPr>
          <p:spPr>
            <a:xfrm flipH="1">
              <a:off x="6843600" y="3964320"/>
              <a:ext cx="1618920" cy="65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8" name="Group 96"/>
          <p:cNvGrpSpPr/>
          <p:nvPr/>
        </p:nvGrpSpPr>
        <p:grpSpPr>
          <a:xfrm>
            <a:off x="6526080" y="3111480"/>
            <a:ext cx="412920" cy="358920"/>
            <a:chOff x="6526080" y="3111480"/>
            <a:chExt cx="412920" cy="358920"/>
          </a:xfrm>
        </p:grpSpPr>
        <p:pic>
          <p:nvPicPr>
            <p:cNvPr id="519" name="Picture 7" descr="1_2_2_2_11_ID4_T2"/>
            <p:cNvPicPr/>
            <p:nvPr/>
          </p:nvPicPr>
          <p:blipFill>
            <a:blip r:embed="rId7"/>
            <a:stretch/>
          </p:blipFill>
          <p:spPr>
            <a:xfrm rot="20809800">
              <a:off x="6683760" y="3275640"/>
              <a:ext cx="164520" cy="17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0" name="Group 95"/>
            <p:cNvGrpSpPr/>
            <p:nvPr/>
          </p:nvGrpSpPr>
          <p:grpSpPr>
            <a:xfrm>
              <a:off x="6526080" y="3111480"/>
              <a:ext cx="412920" cy="291600"/>
              <a:chOff x="6526080" y="3111480"/>
              <a:chExt cx="412920" cy="291600"/>
            </a:xfrm>
          </p:grpSpPr>
          <p:pic>
            <p:nvPicPr>
              <p:cNvPr id="521" name="Picture 7" descr="1_2_2_2_11_ID4_T2"/>
              <p:cNvPicPr/>
              <p:nvPr/>
            </p:nvPicPr>
            <p:blipFill>
              <a:blip r:embed="rId8"/>
              <a:stretch/>
            </p:blipFill>
            <p:spPr>
              <a:xfrm>
                <a:off x="6569280" y="3224160"/>
                <a:ext cx="16452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Picture 7" descr="1_2_2_2_11_ID4_T2"/>
              <p:cNvPicPr/>
              <p:nvPr/>
            </p:nvPicPr>
            <p:blipFill>
              <a:blip r:embed="rId9"/>
              <a:stretch/>
            </p:blipFill>
            <p:spPr>
              <a:xfrm>
                <a:off x="6526080" y="3126240"/>
                <a:ext cx="16344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7" descr="1_2_2_2_11_ID4_T2"/>
              <p:cNvPicPr/>
              <p:nvPr/>
            </p:nvPicPr>
            <p:blipFill>
              <a:blip r:embed="rId10"/>
              <a:stretch/>
            </p:blipFill>
            <p:spPr>
              <a:xfrm>
                <a:off x="6774120" y="3175920"/>
                <a:ext cx="16488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7" descr="1_2_2_2_11_ID4_T2"/>
              <p:cNvPicPr/>
              <p:nvPr/>
            </p:nvPicPr>
            <p:blipFill>
              <a:blip r:embed="rId11"/>
              <a:stretch/>
            </p:blipFill>
            <p:spPr>
              <a:xfrm>
                <a:off x="6644520" y="3111480"/>
                <a:ext cx="164880" cy="17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25" name="Group 42"/>
          <p:cNvGrpSpPr/>
          <p:nvPr/>
        </p:nvGrpSpPr>
        <p:grpSpPr>
          <a:xfrm>
            <a:off x="4043520" y="2470320"/>
            <a:ext cx="1774800" cy="1190520"/>
            <a:chOff x="4043520" y="2470320"/>
            <a:chExt cx="1774800" cy="1190520"/>
          </a:xfrm>
        </p:grpSpPr>
        <p:sp>
          <p:nvSpPr>
            <p:cNvPr id="526" name="Rectangle 53"/>
            <p:cNvSpPr/>
            <p:nvPr/>
          </p:nvSpPr>
          <p:spPr>
            <a:xfrm>
              <a:off x="4162320" y="2470320"/>
              <a:ext cx="1656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so blocks production of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-inflammatory cytokines,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ing IL-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7" name="Group 44"/>
            <p:cNvGrpSpPr/>
            <p:nvPr/>
          </p:nvGrpSpPr>
          <p:grpSpPr>
            <a:xfrm>
              <a:off x="4043520" y="3311640"/>
              <a:ext cx="808560" cy="349200"/>
              <a:chOff x="4043520" y="3311640"/>
              <a:chExt cx="808560" cy="349200"/>
            </a:xfrm>
          </p:grpSpPr>
          <p:pic>
            <p:nvPicPr>
              <p:cNvPr id="528" name="Picture 72" descr="red dots"/>
              <p:cNvPicPr/>
              <p:nvPr/>
            </p:nvPicPr>
            <p:blipFill>
              <a:blip r:embed="rId12">
                <a:lum bright="42000"/>
              </a:blip>
              <a:stretch/>
            </p:blipFill>
            <p:spPr>
              <a:xfrm>
                <a:off x="4356720" y="3311640"/>
                <a:ext cx="495360" cy="349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9" name="Group 101"/>
              <p:cNvGrpSpPr/>
              <p:nvPr/>
            </p:nvGrpSpPr>
            <p:grpSpPr>
              <a:xfrm>
                <a:off x="4043520" y="3431880"/>
                <a:ext cx="112680" cy="108000"/>
                <a:chOff x="4043520" y="3431880"/>
                <a:chExt cx="112680" cy="108000"/>
              </a:xfrm>
            </p:grpSpPr>
            <p:sp>
              <p:nvSpPr>
                <p:cNvPr id="530" name="Line 102"/>
                <p:cNvSpPr/>
                <p:nvPr/>
              </p:nvSpPr>
              <p:spPr>
                <a:xfrm>
                  <a:off x="4043520" y="3431880"/>
                  <a:ext cx="112680" cy="10116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1" name="Line 103"/>
                <p:cNvSpPr/>
                <p:nvPr/>
              </p:nvSpPr>
              <p:spPr>
                <a:xfrm flipH="1">
                  <a:off x="4044240" y="3431880"/>
                  <a:ext cx="105840" cy="108000"/>
                </a:xfrm>
                <a:prstGeom prst="line">
                  <a:avLst/>
                </a:prstGeom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32" name="Group 104"/>
          <p:cNvGrpSpPr/>
          <p:nvPr/>
        </p:nvGrpSpPr>
        <p:grpSpPr>
          <a:xfrm>
            <a:off x="8569440" y="3116160"/>
            <a:ext cx="318600" cy="299880"/>
            <a:chOff x="8569440" y="3116160"/>
            <a:chExt cx="318600" cy="299880"/>
          </a:xfrm>
        </p:grpSpPr>
        <p:sp>
          <p:nvSpPr>
            <p:cNvPr id="533" name="Oval 37"/>
            <p:cNvSpPr/>
            <p:nvPr/>
          </p:nvSpPr>
          <p:spPr>
            <a:xfrm>
              <a:off x="8572680" y="3281040"/>
              <a:ext cx="39600" cy="3924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Oval 38"/>
            <p:cNvSpPr/>
            <p:nvPr/>
          </p:nvSpPr>
          <p:spPr>
            <a:xfrm>
              <a:off x="8781480" y="3321720"/>
              <a:ext cx="39600" cy="3816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Oval 39"/>
            <p:cNvSpPr/>
            <p:nvPr/>
          </p:nvSpPr>
          <p:spPr>
            <a:xfrm>
              <a:off x="8668080" y="3116160"/>
              <a:ext cx="40680" cy="3816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Oval 40"/>
            <p:cNvSpPr/>
            <p:nvPr/>
          </p:nvSpPr>
          <p:spPr>
            <a:xfrm>
              <a:off x="8847000" y="3377880"/>
              <a:ext cx="41040" cy="3816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41"/>
            <p:cNvSpPr/>
            <p:nvPr/>
          </p:nvSpPr>
          <p:spPr>
            <a:xfrm>
              <a:off x="8709840" y="3192840"/>
              <a:ext cx="41040" cy="3924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Oval 42"/>
            <p:cNvSpPr/>
            <p:nvPr/>
          </p:nvSpPr>
          <p:spPr>
            <a:xfrm>
              <a:off x="8691120" y="3295440"/>
              <a:ext cx="39600" cy="3816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Oval 43"/>
            <p:cNvSpPr/>
            <p:nvPr/>
          </p:nvSpPr>
          <p:spPr>
            <a:xfrm>
              <a:off x="8821440" y="3261600"/>
              <a:ext cx="41040" cy="3924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Oval 44"/>
            <p:cNvSpPr/>
            <p:nvPr/>
          </p:nvSpPr>
          <p:spPr>
            <a:xfrm>
              <a:off x="8569440" y="3187080"/>
              <a:ext cx="41040" cy="3924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45"/>
            <p:cNvSpPr/>
            <p:nvPr/>
          </p:nvSpPr>
          <p:spPr>
            <a:xfrm>
              <a:off x="8807400" y="3201840"/>
              <a:ext cx="39600" cy="38160"/>
            </a:xfrm>
            <a:prstGeom prst="ellipse">
              <a:avLst/>
            </a:prstGeom>
            <a:solidFill>
              <a:srgbClr val="c8d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2" name="Group 59"/>
          <p:cNvGrpSpPr/>
          <p:nvPr/>
        </p:nvGrpSpPr>
        <p:grpSpPr>
          <a:xfrm>
            <a:off x="4653000" y="4716360"/>
            <a:ext cx="3241080" cy="703800"/>
            <a:chOff x="4653000" y="4716360"/>
            <a:chExt cx="3241080" cy="703800"/>
          </a:xfrm>
        </p:grpSpPr>
        <p:sp>
          <p:nvSpPr>
            <p:cNvPr id="543" name="AutoShape 61"/>
            <p:cNvSpPr/>
            <p:nvPr/>
          </p:nvSpPr>
          <p:spPr>
            <a:xfrm>
              <a:off x="4653000" y="4839480"/>
              <a:ext cx="291960" cy="380520"/>
            </a:xfrm>
            <a:prstGeom prst="downArrow">
              <a:avLst>
                <a:gd name="adj1" fmla="val 50000"/>
                <a:gd name="adj2" fmla="val 49164"/>
              </a:avLst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Rectangle 75"/>
            <p:cNvSpPr/>
            <p:nvPr/>
          </p:nvSpPr>
          <p:spPr>
            <a:xfrm>
              <a:off x="4874040" y="4716360"/>
              <a:ext cx="302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flammation within the</a:t>
              </a:r>
              <a:br>
                <a:rPr sz="2000"/>
              </a:b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rmis and epidermi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5" name="Group 62"/>
          <p:cNvGrpSpPr/>
          <p:nvPr/>
        </p:nvGrpSpPr>
        <p:grpSpPr>
          <a:xfrm>
            <a:off x="5467320" y="5464080"/>
            <a:ext cx="1442160" cy="406440"/>
            <a:chOff x="5467320" y="5464080"/>
            <a:chExt cx="1442160" cy="406440"/>
          </a:xfrm>
        </p:grpSpPr>
        <p:sp>
          <p:nvSpPr>
            <p:cNvPr id="546" name="AutoShape 62"/>
            <p:cNvSpPr/>
            <p:nvPr/>
          </p:nvSpPr>
          <p:spPr>
            <a:xfrm>
              <a:off x="5467320" y="5490720"/>
              <a:ext cx="291960" cy="379800"/>
            </a:xfrm>
            <a:prstGeom prst="downArrow">
              <a:avLst>
                <a:gd name="adj1" fmla="val 50000"/>
                <a:gd name="adj2" fmla="val 55052"/>
              </a:avLst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76"/>
            <p:cNvSpPr/>
            <p:nvPr/>
          </p:nvSpPr>
          <p:spPr>
            <a:xfrm>
              <a:off x="5753520" y="546408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uritu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Line 102"/>
          <p:cNvSpPr/>
          <p:nvPr/>
        </p:nvSpPr>
        <p:spPr>
          <a:xfrm>
            <a:off x="3422520" y="3425760"/>
            <a:ext cx="112680" cy="1015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103"/>
          <p:cNvSpPr/>
          <p:nvPr/>
        </p:nvSpPr>
        <p:spPr>
          <a:xfrm flipH="1">
            <a:off x="3422520" y="3425760"/>
            <a:ext cx="106560" cy="108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6095880" y="5903640"/>
            <a:ext cx="568800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co MJ, et al. Allergy Asthma Proc. 2002;23(3):191-7; </a:t>
            </a:r>
            <a:br>
              <a:rPr sz="1400"/>
            </a:b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Simpson D, et al. Drugs. 2005;65(6):827-5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llenberg A, et al. J Allergy Clin Immunol. 2001 Mar;107(3):519-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07880" y="5864040"/>
            <a:ext cx="56880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, high-affinity IgE receptor; IDECs, inflammatory dendritic epidermal cells; IgE, immunoglobulin E; IL-2, interleuki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07520" y="108000"/>
            <a:ext cx="11363400" cy="11397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crolimus can calm the flare cycle due to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 several points in the inflammatory casca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ficacy of Tacroli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rolimus 0.1% and 0.03% ointment monotherapy is more effective than emollient in controlling pruritus in AE (MD=28.6, 95% CI 19.8 to 37.5)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dian time to pruritus recurrence is longer in tacrolimus compared with the emollient (&gt;28 days vs 3 days)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. Takeuchi S, et al. Ann Dermatol. 2012; 24(2):144-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87B-EC0C-4017-9E34-4B30A75E1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-36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fficacy of Tacrolim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38080" y="1836360"/>
            <a:ext cx="10515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rolimus 0.03% ointment is more effective than hydrocortisone acetate 1% in physician’s global assessment (RR=2.58, 95% CI 1.96 to 3.38)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re is no difference between tacrolimus 0.03% ointment and mid-potency corticosteroids (RR=0.45, 95% CI 0.13 to 1.57).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. Cury MJ, et al. Cochrane Database Syst Rev. 2015; (7):CD009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C145-A864-4F8C-837B-1405DB447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11353680" y="166680"/>
            <a:ext cx="541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0CA-3D1A-4ECC-B75E-4EBDCC905840}" type="slidenum">
              <a:rPr b="0" lang="en-US" sz="1400" spc="-1" strike="noStrike">
                <a:solidFill>
                  <a:srgbClr val="4472c4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4243320" y="2138400"/>
            <a:ext cx="4181400" cy="2774880"/>
            <a:chOff x="4243320" y="2138400"/>
            <a:chExt cx="4181400" cy="2774880"/>
          </a:xfrm>
        </p:grpSpPr>
        <p:sp>
          <p:nvSpPr>
            <p:cNvPr id="562" name="Rectangle 12"/>
            <p:cNvSpPr/>
            <p:nvPr/>
          </p:nvSpPr>
          <p:spPr>
            <a:xfrm>
              <a:off x="4243320" y="2516040"/>
              <a:ext cx="1139400" cy="2397240"/>
            </a:xfrm>
            <a:prstGeom prst="rect">
              <a:avLst/>
            </a:prstGeom>
            <a:solidFill>
              <a:srgbClr val="8ac6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Rectangle 13"/>
            <p:cNvSpPr/>
            <p:nvPr/>
          </p:nvSpPr>
          <p:spPr>
            <a:xfrm>
              <a:off x="7283520" y="3332160"/>
              <a:ext cx="1141200" cy="1581120"/>
            </a:xfrm>
            <a:prstGeom prst="rect">
              <a:avLst/>
            </a:prstGeom>
            <a:solidFill>
              <a:srgbClr val="999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>
              <a:off x="4813200" y="2138400"/>
              <a:ext cx="3041280" cy="1193760"/>
            </a:xfrm>
            <a:custGeom>
              <a:avLst/>
              <a:gdLst/>
              <a:ahLst/>
              <a:rect l="l" t="t" r="r" b="b"/>
              <a:pathLst>
                <a:path w="4414" h="1567">
                  <a:moveTo>
                    <a:pt x="0" y="496"/>
                  </a:moveTo>
                  <a:lnTo>
                    <a:pt x="0" y="0"/>
                  </a:lnTo>
                  <a:lnTo>
                    <a:pt x="4414" y="0"/>
                  </a:lnTo>
                  <a:lnTo>
                    <a:pt x="4414" y="15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TextBox 24"/>
          <p:cNvSpPr/>
          <p:nvPr/>
        </p:nvSpPr>
        <p:spPr>
          <a:xfrm>
            <a:off x="5778360" y="1798560"/>
            <a:ext cx="105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&lt;0.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25"/>
          <p:cNvSpPr/>
          <p:nvPr/>
        </p:nvSpPr>
        <p:spPr>
          <a:xfrm>
            <a:off x="2751120" y="169020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26"/>
          <p:cNvSpPr/>
          <p:nvPr/>
        </p:nvSpPr>
        <p:spPr>
          <a:xfrm>
            <a:off x="2751120" y="21297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27"/>
          <p:cNvSpPr/>
          <p:nvPr/>
        </p:nvSpPr>
        <p:spPr>
          <a:xfrm>
            <a:off x="2751120" y="25599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28"/>
          <p:cNvSpPr/>
          <p:nvPr/>
        </p:nvSpPr>
        <p:spPr>
          <a:xfrm>
            <a:off x="2751120" y="299052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29"/>
          <p:cNvSpPr/>
          <p:nvPr/>
        </p:nvSpPr>
        <p:spPr>
          <a:xfrm>
            <a:off x="2751120" y="34221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0"/>
          <p:cNvSpPr/>
          <p:nvPr/>
        </p:nvSpPr>
        <p:spPr>
          <a:xfrm>
            <a:off x="2751120" y="385236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31"/>
          <p:cNvSpPr/>
          <p:nvPr/>
        </p:nvSpPr>
        <p:spPr>
          <a:xfrm>
            <a:off x="2751120" y="4284000"/>
            <a:ext cx="44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2"/>
          <p:cNvSpPr/>
          <p:nvPr/>
        </p:nvSpPr>
        <p:spPr>
          <a:xfrm>
            <a:off x="2884320" y="47304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3"/>
          <p:cNvSpPr/>
          <p:nvPr/>
        </p:nvSpPr>
        <p:spPr>
          <a:xfrm rot="16200000">
            <a:off x="967320" y="3097800"/>
            <a:ext cx="304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dian improvement 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I mAUC (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34"/>
          <p:cNvSpPr/>
          <p:nvPr/>
        </p:nvSpPr>
        <p:spPr>
          <a:xfrm>
            <a:off x="3292560" y="5005440"/>
            <a:ext cx="30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Tacrolim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% oint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n=18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35"/>
          <p:cNvSpPr/>
          <p:nvPr/>
        </p:nvSpPr>
        <p:spPr>
          <a:xfrm>
            <a:off x="6327720" y="4989600"/>
            <a:ext cx="304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br>
              <a:rPr sz="1600"/>
            </a:b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acetate 1% oint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n=185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7" name="Group 17"/>
          <p:cNvGrpSpPr/>
          <p:nvPr/>
        </p:nvGrpSpPr>
        <p:grpSpPr>
          <a:xfrm>
            <a:off x="3200400" y="1868400"/>
            <a:ext cx="6172200" cy="3128760"/>
            <a:chOff x="3200400" y="1868400"/>
            <a:chExt cx="6172200" cy="3128760"/>
          </a:xfrm>
        </p:grpSpPr>
        <p:sp>
          <p:nvSpPr>
            <p:cNvPr id="578" name="Freeform 18"/>
            <p:cNvSpPr/>
            <p:nvPr/>
          </p:nvSpPr>
          <p:spPr>
            <a:xfrm>
              <a:off x="3281760" y="1868400"/>
              <a:ext cx="6090480" cy="3040200"/>
            </a:xfrm>
            <a:custGeom>
              <a:avLst/>
              <a:gdLst/>
              <a:ahLst/>
              <a:rect l="l" t="t" r="r" b="b"/>
              <a:pathLst>
                <a:path w="8839" h="3988">
                  <a:moveTo>
                    <a:pt x="0" y="0"/>
                  </a:moveTo>
                  <a:lnTo>
                    <a:pt x="0" y="3988"/>
                  </a:lnTo>
                  <a:lnTo>
                    <a:pt x="8839" y="3988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3200400" y="186840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>
              <a:off x="3200400" y="230328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21"/>
            <p:cNvSpPr/>
            <p:nvPr/>
          </p:nvSpPr>
          <p:spPr>
            <a:xfrm>
              <a:off x="3200400" y="273852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22"/>
            <p:cNvSpPr/>
            <p:nvPr/>
          </p:nvSpPr>
          <p:spPr>
            <a:xfrm>
              <a:off x="3200400" y="317196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23"/>
            <p:cNvSpPr/>
            <p:nvPr/>
          </p:nvSpPr>
          <p:spPr>
            <a:xfrm>
              <a:off x="3200400" y="360504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>
              <a:off x="3200400" y="404028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>
              <a:off x="3200400" y="447336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>
              <a:off x="3200400" y="4908600"/>
              <a:ext cx="81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 flipV="1">
              <a:off x="3281760" y="4908240"/>
              <a:ext cx="0" cy="88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 flipV="1">
              <a:off x="6326280" y="4908240"/>
              <a:ext cx="0" cy="88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 flipV="1">
              <a:off x="9372600" y="4908240"/>
              <a:ext cx="0" cy="88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095880" y="6438600"/>
            <a:ext cx="56880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itamo S, et al. J Allergy Clin Immunol. 2002;109(3):539-4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07880" y="5767200"/>
            <a:ext cx="621216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ldren (2 - 15 years; n=560) with moderate to severe atopic dermatitis; Treatments administered twice daily for 3 weeks; mEASI=modified Eczema Area and Severity Index; mAUC=mean area under the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itle 1"/>
          <p:cNvSpPr/>
          <p:nvPr/>
        </p:nvSpPr>
        <p:spPr>
          <a:xfrm>
            <a:off x="0" y="7920"/>
            <a:ext cx="12192120" cy="13255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-360" y="112680"/>
            <a:ext cx="12192120" cy="106056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acrolimus 0.03% ointment is significantly more effective than low potency TCS (hydrocortisone acetate 1% ointment) in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3-28T01:00:56Z</dcterms:modified>
  <cp:revision>196</cp:revision>
  <dc:subject/>
  <dc:title>PowerPoint Presentation</dc:title>
</cp:coreProperties>
</file>