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AAC5-1C04-47B3-A324-7D9B1A70D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C70-833A-4893-BCDD-4307A9B0B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9119-D6FF-4E97-B675-69E1516F3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48F8-B977-4BF9-9F4A-C8E99F86C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0AA-80C4-4484-80EE-9B9942820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69DA-AAB4-4CE6-90E3-D89E5C80D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8B76-DD53-47E6-A015-BF31CE082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9AE0-F17C-430C-9557-D99E84818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596-8BE4-4146-99CC-25183D372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674-AF0E-473E-B83C-39473F020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10B7-BCCE-4A8D-B1B0-F52A1A3FB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8435-829D-42E4-A9FD-2190A5BB5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AA04-3D52-4C9C-BAF6-F777EEDC5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4BF-3B07-46C0-87F9-CFB03C7B7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AF48-F3E2-4CB6-ACBE-1D45E1B55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D0B9-F29B-4A4E-9A4D-879D7FED6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34E-2F97-45C8-99B6-C3E6F4840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2C1-AFAD-46E7-98BE-15538694D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1DD9-89A1-4C10-AE1A-731F35A7D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2EE-CFCB-4B77-8151-5A27F92B4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55CF-B32A-4D44-BFF0-F0F86F738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DF9-AD5F-433A-A9A0-0165850C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323-FDDD-41BC-971D-9C7CA42D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76D-79E1-46F3-AB8E-B9CE8EF9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FF7-5696-45F6-8A31-FA04CCFC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5105-018D-4684-81BE-0821E74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7635-29D1-4357-9075-837EF03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4205-5E9A-437D-B4F6-9F44B51C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AB87-ECDE-4EED-A5C7-59735F8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D99-30D7-4489-8AC0-42248C94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99E9-E20A-4263-AC92-E24B221C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2D3C-BF3C-4C53-9503-D7C3D6B9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F93-0922-4BB3-B65C-D3F14A9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CB11-377E-4FDA-8DDE-4D5D1E42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50E1-2FDC-49CF-8D74-12EEFC3E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01F8-B7D1-4142-8D24-AF818D0D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7878-5A67-44AB-ACA5-92D7CBEA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09A6-D769-4F41-A3B8-ABA27B61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4BF-B1BF-49BF-96FC-C491E58A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72-C7B6-4D85-8B43-FB99848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C3-71E2-4AFE-A2BF-AF1B2927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738-0E80-416C-A042-40503F6F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5AB-F7E7-44B7-A811-46B467C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2B5-D48D-481D-94D8-942222E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97D-DFCF-436D-B1F8-416CAEB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532-527E-480A-A0E3-B96A407637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1BD-DB2C-4D8F-AEEB-1E17B059B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A82-EC09-4AC3-BE90-D2F8EC527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2B57-EA8A-421D-B00F-09E9A5E1F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368360" y="2322360"/>
            <a:ext cx="7709040" cy="42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</a:rPr>
              <a:t>Case Discuss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abeera Beg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 Kuala Lumpur, Kuala Lump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Ch’ng Chin Chw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sat Perubatan Universiti Malaya, K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"/>
              </a:rPr>
              <a:t>Mr. Leow Wooi Le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</a:rPr>
              <a:t>Hospital Kuala Lumpur, Kuala Lump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. Zaridah Zainu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pital Kuala Lumpur, Kuala Lump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obiotic and prebiotic are food supplements/food that modify and reinstate the pre-existing intestinal flo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ebiotics: dietary fibre (non-digestible oligosaccharides and fructooligosaccharides) which stimulates the growth or activity of bacteria in the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robiotics: live ‘good’ bacteria e.g. Lactobacilli sp. and Bifido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of prebiotic and probioti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28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2AFB-38D2-4E58-8E35-F4F69E3D3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61680" y="1355400"/>
            <a:ext cx="11037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’s insufficient evidence to recommend prebiotic and probiotic in the management of AE due to heterogeneity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d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duration of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owever, there are studies which show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duction in the incidence of AE when probiotics given to healthy infants (&lt;2 years old) and pregnant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reduction in incidence of AE when expressed breast milk or infant formula supplemented with prebiotics (but not signific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32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384C-92B8-4AB2-AC8C-B719C6891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an other milk formulas help in improving A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. Soy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B. Partially-hydrolysed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36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C2B-8839-4E6C-84B2-73C9976F9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61680" y="1261800"/>
            <a:ext cx="11037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Soya formula - no  significant difference between soy and cow’s milk formulas in prevention of childhood 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ff0000"/>
                </a:solidFill>
                <a:latin typeface="Arial"/>
                <a:ea typeface="Arial"/>
              </a:rPr>
              <a:t>*Unsuitability for use in infants &lt;6 months of age due to unknown long-term effects of the high aluminium and phytoestrogen content in soy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artially-hydrolysed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ention of AE, hydrolysed formulas should not be offered to infants in preference to breast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re are evidences showing a risk reduction of  AE among infants with risk of atopy when using partially-hydrolysed 100% whey protein infant formula compared with intact protein cow’s milk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40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88F-130D-4EF1-94B9-43C794C18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61680" y="1355400"/>
            <a:ext cx="11037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other’s concerns regarding dietary issues have been addres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Q6. Besides dietary intervention and treatment, what are   other management issues you should emphasi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3a - History (cont.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44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383-1E58-4F8C-BDDA-0834EC741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61680" y="1355400"/>
            <a:ext cx="11037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Educational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tion and management of aggravat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48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E6ED-55A2-4BF2-B002-C79866F82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62040" y="1079640"/>
            <a:ext cx="47577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Empower mother to use Written Eczema Action Plan (WEAP) to control ecz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6 (cont.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52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F3C-1E86-4070-A96A-993ADC08B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378480" y="1138320"/>
            <a:ext cx="37162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6 (cont.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56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B2AA-B3F5-4756-87D0-5DB3ABE20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379600" y="1185840"/>
            <a:ext cx="7383600" cy="547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2"/>
          <a:srcRect l="18398" t="66476" r="375" b="16769"/>
          <a:stretch/>
        </p:blipFill>
        <p:spPr>
          <a:xfrm>
            <a:off x="649440" y="4195800"/>
            <a:ext cx="11248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61680" y="1355400"/>
            <a:ext cx="110379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friends recommend extra virgin olive oil and Chinese herbal medicine as natural remedies for A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Q7. Are they helpful to reduce her son’s A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3a - History (cont.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62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A8C4-CAF2-4720-AE93-A7ACD4426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61680" y="1355400"/>
            <a:ext cx="11037960" cy="17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Olive oil – worsen eczema by reducing stratum corneum integrity and  induce eryt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hinese herbal medicine – no sufficient ev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66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91F2-3EE6-4041-94D1-4DB283E88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89120" y="3303720"/>
            <a:ext cx="1073304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rs. FA, a 27-year-old lady, comes with her 5 months old son to the clinic for worsening of her son’s ras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son has been diagnosed to have AE by a paediatric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Upon further questioning, Mrs. FA has intermittent episodic asthma and her husband has allergic rhin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son has been exclusively breastfed until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Mrs. FA has some concerns about the medical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3a - Histor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9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05FD-BE59-4547-AF12-37C320F91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70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5BE-E9FB-483E-BD19-D1AD2688F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09760" y="1398600"/>
            <a:ext cx="11177280" cy="1157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501480" y="2827440"/>
            <a:ext cx="11141280" cy="167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522360" y="4734000"/>
            <a:ext cx="1109484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266E-21F4-4025-9D1E-AE49D280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Can she continue to breastfeed her son despite of the worsening ra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99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858-6DD6-4161-9C7E-5F8F89C2D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Yes, she should continue to breastfeed her 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Exclusive breastfeeding for 3 months or more may help to prevent the development of AE in infants with family history of at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03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D9D-D131-4669-8118-2D8D14B75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Does she need to restrict her dietary in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07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AAB7-46F2-4527-AA29-E932C897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No need diet restr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aternal dietary antigen avoidance during lactation does not help to reduce eczema severity in infants with 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11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E3C-F22C-4F99-8668-B1B3B3E39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Is there any supplementation which she can consume to improve her son’s ecz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15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69B-B327-4884-8631-CA388156E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62040" y="1355760"/>
            <a:ext cx="1094112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insufficient evidence to recommend dietary supplements in the management of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also no significant reduction of incidence of childhood AE when vitamins are consu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swer 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19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5444-42C5-47C5-8151-B79BB3E0B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703440" y="4133880"/>
            <a:ext cx="10733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62040" y="1355760"/>
            <a:ext cx="1094112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Her friends recommend prebiotics and probiotics for her son’s condition. Does it hel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24" name="Footer Placeholder 2"/>
          <p:cNvSpPr/>
          <p:nvPr/>
        </p:nvSpPr>
        <p:spPr>
          <a:xfrm>
            <a:off x="4038480" y="648180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B286-71BC-41DE-8A1D-6B7B87985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3-21T08:00:22Z</dcterms:modified>
  <cp:revision>102</cp:revision>
  <dc:subject/>
  <dc:title>PowerPoint Presentation</dc:title>
</cp:coreProperties>
</file>