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17C3-94CB-46D9-9315-7C6767DE4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FAA5-E950-4787-8EA7-470F42902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3C82-6C8C-4D1C-AA19-DD44A74E0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36B2-40B9-42B2-9500-CAF35FFA0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32A0-1A3C-4A85-980E-F663842BB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96D5-F85C-405B-AFFE-53C3BE135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258A-03AF-416A-81B3-60F1EF913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55BD-3247-4ABF-A1B4-20A1B1B64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6A1E-66C8-4341-909A-21CFC08A0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228C-C728-4151-B955-EE51204C4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84F5-8F24-4307-BA2B-B7CD2A7C7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6169-31F4-4E12-8157-1C641AE73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4AF9-778E-4E11-A1F2-6AF6027B1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96A3-ABF4-481E-B8B1-583090726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B934-17EE-4BDC-8E37-EC8E3E0A1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EC26-C47D-416A-B36B-BD2F6FCFE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6451-92E5-4AD8-BE3E-336DC46A3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FD3B-5A02-436B-8438-625EBBCAA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4356-BEB7-4932-99FE-CB553A162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4A7C-EB12-4E54-836C-FC780F520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3CD6-70DA-4449-88F2-5831EB261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38D-FC6B-45EA-AC76-27A2C8C9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60B-9262-4C41-8FF0-927C44C8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0D7-EE31-4DF3-8415-DD21C4AD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E2E-9A9D-4491-9D6C-C803BA44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7C92-8801-43D6-BD7B-A2F0E2D8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661B-B1D3-424B-9BCE-5F3368CC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25D7-48AC-4A55-986E-FED6DEB8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922C-54EB-4E30-90B4-4AA073BE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34CC-045A-4B51-B35A-49F0AE5C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4934-5F84-4E66-AAB6-23570331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F8F0-7A79-4F13-8B5F-C0C7CED4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CFE-7109-4685-BCD4-D7B0C998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0F33-AC58-4CE4-8B30-580925B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B2EF-D633-484C-8BEC-DD6F7DB7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C0BC-F988-4E45-8464-AD8ED69B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2A12-8D50-428D-89A5-66292B8E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72C2-A305-4BB0-950D-BB5E87F3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3ED-6AB4-4BFC-AD2F-B9EE2427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6A1-6C69-4ACF-AB03-276A773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911-9D04-44E1-BF82-D0BBEAD0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965-C2AC-4BDD-B97E-68E83064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7D4-624E-4CA8-81F8-8FDA027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EB2-C9A6-4599-8413-01ECA2E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284-C938-4D22-921A-0115395D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ADA4-2C47-4368-B450-F6636CA008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BE58-6C40-43E1-BA14-1E0038956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97BA-2D79-4EBE-9738-D7F7FD2D24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67B6-044B-4D6D-9911-A0B2A62CB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pra.moh.gov.my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ff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ff3399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7596360" y="690480"/>
            <a:ext cx="3773160" cy="5792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1363680" y="1959120"/>
            <a:ext cx="788832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Atopic Ecze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Other Interventions in 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Ch’ng Chin Chw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Lecturer &amp; Dermatolog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sat Perubatan Universiti Malay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. Leow Wooi Le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rmac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pital Kuala Lumpur, Kuala Lump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7720" y="1374840"/>
            <a:ext cx="6402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Virgin coconut oil (VCO) applied topically is more effective than mineral oil (paraffin oil) in improving mean SCORAD in AE (p&lt;0.001). There is no difference in side effects when comparing between the two (p=0.089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Olive oil applied topically causes reduced stratum corneum integrity and induces more erythema compared with sunflower seed oil in AE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93. Evangelista MT, et al.. Int J Dermatol. 2014;53(1):100-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5FE8-4F10-48EE-BD6E-6335B405A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ical Oi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31" name="Content Placeholder 4" descr="coconut.jpg"/>
          <p:cNvPicPr/>
          <p:nvPr/>
        </p:nvPicPr>
        <p:blipFill>
          <a:blip r:embed="rId1"/>
          <a:stretch/>
        </p:blipFill>
        <p:spPr>
          <a:xfrm>
            <a:off x="7470720" y="1650960"/>
            <a:ext cx="4022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7720" y="1638360"/>
            <a:ext cx="64026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ystematic review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no difference in general improvement at 8 weeks between massage therapy alone and in combination with essential oil in 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ff0000"/>
                </a:solidFill>
                <a:latin typeface="Arial"/>
                <a:ea typeface="Arial"/>
              </a:rPr>
              <a:t>w</a:t>
            </a:r>
            <a:r>
              <a:rPr b="0" lang="en-MY" sz="2400" spc="-1" strike="noStrike">
                <a:solidFill>
                  <a:srgbClr val="ff0000"/>
                </a:solidFill>
                <a:latin typeface="Arial"/>
                <a:ea typeface="Arial"/>
              </a:rPr>
              <a:t>orsening of symptoms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 massage therapy with essential oil group </a:t>
            </a:r>
            <a:r>
              <a:rPr b="0" lang="en-MY" sz="2400" spc="-1" strike="noStrike">
                <a:solidFill>
                  <a:srgbClr val="ff0000"/>
                </a:solidFill>
                <a:latin typeface="Arial"/>
                <a:ea typeface="Arial"/>
              </a:rPr>
              <a:t>beyond 8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6CB0-20C0-4C26-92DC-FFAA6401F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sage Therap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36" name="Content Placeholder 5" descr="Shoulder-massage.jpg"/>
          <p:cNvPicPr/>
          <p:nvPr/>
        </p:nvPicPr>
        <p:blipFill>
          <a:blip r:embed="rId1"/>
          <a:stretch/>
        </p:blipFill>
        <p:spPr>
          <a:xfrm>
            <a:off x="7332840" y="2205000"/>
            <a:ext cx="40384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7720" y="1638360"/>
            <a:ext cx="64026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insufficient evidence to recommend the use of acupuncture in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1, 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D8BD-54F5-4F31-9D62-C391BEE2B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upunctu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41" name="Content Placeholder 4" descr="acupuncture.jfif"/>
          <p:cNvPicPr/>
          <p:nvPr/>
        </p:nvPicPr>
        <p:blipFill>
          <a:blip r:embed="rId1"/>
          <a:stretch/>
        </p:blipFill>
        <p:spPr>
          <a:xfrm>
            <a:off x="7805880" y="1528920"/>
            <a:ext cx="3095640" cy="46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7720" y="1374840"/>
            <a:ext cx="6402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Full body immersion in mineral water or mineral-laden mud (i.e. hot springs, cold springs or other sources of such water like the Dead S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CT - synchronous balneophototherapy (immersion in mineral water with phototherapy) was better than NBUVB monotherapy in improving SCORAD (p&lt;0.05) in AE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94. Heinlin J, et al. A. J Eur Acad Dermatol Venereol. 2011;25(7):765-7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0D0C-A054-4344-9C26-21E77AEF0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neotherap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46" name="Content Placeholder 4" descr="onsen.jfif"/>
          <p:cNvPicPr/>
          <p:nvPr/>
        </p:nvPicPr>
        <p:blipFill>
          <a:blip r:embed="rId1"/>
          <a:stretch/>
        </p:blipFill>
        <p:spPr>
          <a:xfrm>
            <a:off x="7432560" y="2214720"/>
            <a:ext cx="39672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8080" y="1825200"/>
            <a:ext cx="10515600" cy="20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sufficient evidence to recommend the use of homeopathic remedies in AE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95. Ernst E. Br J Dermatol. 2012;166(6):1170-11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AF10-6199-49A1-9A3A-587E029C3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meopath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51" name="Content Placeholder 4" descr="homeopathy.jpg"/>
          <p:cNvPicPr/>
          <p:nvPr/>
        </p:nvPicPr>
        <p:blipFill>
          <a:blip r:embed="rId1"/>
          <a:stretch/>
        </p:blipFill>
        <p:spPr>
          <a:xfrm>
            <a:off x="5705640" y="290988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8034-9BC3-4A05-93E7-DFC7FF214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 Home Messa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611280" y="2617920"/>
            <a:ext cx="11079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63620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6000" spc="-1" strike="noStrike">
                <a:solidFill>
                  <a:srgbClr val="000000"/>
                </a:solidFill>
                <a:latin typeface="Arial"/>
              </a:rPr>
              <a:t>Specific Allergen Immunotherap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B00C-11B7-40C3-95CC-08878E441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Desensitisation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hyposensitisation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 which involves the administration (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sublingual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subcutaneous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) of specifically 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relevant allergen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(s) in the treatment of IgE-mediated allergic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529A-C0AD-4F07-A6ED-06F2413CB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c Allergen Immunotherapy (SIT)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Inhibiting abnormal immune responses 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o the relevant allergen, thus reducing symptoms in patients with 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6698-2231-47EE-BB5C-951169AE2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es SIT work?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981080" y="123840"/>
            <a:ext cx="838512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o review the effectiveness and safety of traditional and complementary medicine (TCM) in the management of 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o update on the role of specific allergen immunotherapy in 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6254-2D86-4D5D-A21A-72F986B35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ing Objecti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 recent Cochrane meta-analysis did not show conclusive evidence on the effectiveness of SIT in treating patients with AE. The allergens included in the study were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71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MY" sz="2800" spc="-1" strike="noStrike">
                <a:solidFill>
                  <a:srgbClr val="000000"/>
                </a:solidFill>
                <a:latin typeface="Arial"/>
              </a:rPr>
              <a:t>Dermatophagoides pterionyssin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MY" sz="2800" spc="-1" strike="noStrike">
                <a:solidFill>
                  <a:srgbClr val="000000"/>
                </a:solidFill>
                <a:latin typeface="Arial"/>
              </a:rPr>
              <a:t>Dermatophagoides fa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Grass p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71. Tam HH, et al. Cochrane Database Syst Rev. 2016; 2:CD0087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2FAB-43A2-4685-B12F-5F25D3515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ding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72" name="Right Brace 5"/>
          <p:cNvSpPr/>
          <p:nvPr/>
        </p:nvSpPr>
        <p:spPr>
          <a:xfrm>
            <a:off x="6946920" y="3713040"/>
            <a:ext cx="144360" cy="865440"/>
          </a:xfrm>
          <a:custGeom>
            <a:avLst/>
            <a:gdLst>
              <a:gd name="textAreaLeft" fmla="*/ 0 w 144360"/>
              <a:gd name="textAreaRight" fmla="*/ 52200 w 144360"/>
              <a:gd name="textAreaTop" fmla="*/ 3600 h 865440"/>
              <a:gd name="textAreaBottom" fmla="*/ 86184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1"/>
                  <a:pt x="10800" y="301"/>
                </a:cubicBezTo>
                <a:lnTo>
                  <a:pt x="10800" y="10499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1"/>
                  <a:pt x="10800" y="11101"/>
                </a:cubicBezTo>
                <a:lnTo>
                  <a:pt x="10800" y="21299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7091280" y="365292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se dust m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042D-5885-4F4A-BFC2-0F988A488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 on SI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10" descr=""/>
          <p:cNvPicPr/>
          <p:nvPr/>
        </p:nvPicPr>
        <p:blipFill>
          <a:blip r:embed="rId1"/>
          <a:stretch/>
        </p:blipFill>
        <p:spPr>
          <a:xfrm>
            <a:off x="782640" y="2592360"/>
            <a:ext cx="1077912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36FE-64EB-4C5A-95BC-9C43CF050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ealth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not part of conventional medicine o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not fully integrated into the dominant health 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Often interchangeable with </a:t>
            </a:r>
            <a:r>
              <a:rPr b="0" lang="en-MY" sz="3200" spc="-1" strike="noStrike">
                <a:solidFill>
                  <a:srgbClr val="ff0000"/>
                </a:solidFill>
                <a:latin typeface="Arial"/>
                <a:ea typeface="Arial"/>
              </a:rPr>
              <a:t>traditional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DBEF-2F9D-423F-9482-A7CA6EF3D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680" y="25560"/>
          <a:ext cx="12060360" cy="143172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432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and Complementary Medicine (TCM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8080" y="1537920"/>
            <a:ext cx="10515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ochrane systematic review of 28 RCTs of moderate quality - topical or oral chinese herbal medicine (CHM) was better than placebo in AE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overall severity score (EASI, SASSAD and SCORAD)   (SMD= -0.88, 95% CI -1.67 to -0.09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everity of itch score measured by Visual Analogue Score (VAS) (SMD= -1.53, 95% CI -2.64 to -0.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mprovement of QoL at 12-week (MD= -2.50, 95% CI -4.77 to -0.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88. Gu S, et al. Cochrane Database Syst Rev. 2013;(9):CD008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9763-9958-4057-B19E-F15A9A283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ese Herbal Medic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8080" y="1436760"/>
            <a:ext cx="10515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2 meta-analyses on RCTs of moderate quality showed that topical or oral CHM was better compared with ‘conventional treatments’ </a:t>
            </a:r>
            <a:r>
              <a:rPr b="0" lang="en-MY" sz="2800" spc="-1" strike="noStrike">
                <a:solidFill>
                  <a:srgbClr val="ff0000"/>
                </a:solidFill>
                <a:latin typeface="Arial"/>
                <a:ea typeface="Arial"/>
              </a:rPr>
              <a:t>(e.g. econazole nitrate cream, calamine lotion, zinc oxide cream and topical corticosteroids)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A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erythema (SMD= -0.76; 95% CI -1.05 to -0.47) and surface damage scores (SMD= -1.08; 95% CI, -1.59 to -0.56)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total effectiveness rate (RR=1.19, 95% CI 1.04 to 1.36); however, sub-group analysis showed no difference between topical CHM and topical corticosteroids (RR=1.04, 95% CI 0.93 to 1.16)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89. Tan HY, et al. J Am Acad Dermatol. 2013;69(2):295-3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90. Gu S, et al. Dermatology. 2014; 228(4):294-3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3B2C-1D9D-4769-AC33-FF4714CE8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ese Herbal Medicine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8080" y="1638000"/>
            <a:ext cx="10515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HM in combination with conventional therapy is more effective than conventional therapy alone in AE for overall clinical score (MD= -2.56; 95% CI -3.46 to -1.66)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opical or oral CHM is </a:t>
            </a:r>
            <a:r>
              <a:rPr b="0" lang="en-MY" sz="3200" spc="-1" strike="noStrike">
                <a:solidFill>
                  <a:srgbClr val="ff0000"/>
                </a:solidFill>
                <a:latin typeface="Arial"/>
                <a:ea typeface="Arial"/>
              </a:rPr>
              <a:t>generally safe 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ompared with placebo or conventional therapy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9 – 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91. Vieira BL, et al. Am J Clin Dermatol. 2016;17(6):557-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E88E-E4C7-4DA5-A1B9-D3FA46F13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ese Herbal Medicine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Effectiveness of CHM in AE is pertaining to specific prepa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hould not be generalised to other CHM prep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ome traditional medicine (not limited to CHM) contains prohibited substances (e.g. dexamethasone, mercury). </a:t>
            </a:r>
            <a:r>
              <a:rPr b="0" lang="en-MY" sz="3200" spc="-1" strike="noStrike" u="sng">
                <a:solidFill>
                  <a:srgbClr val="0563c1"/>
                </a:solidFill>
                <a:uFillTx/>
                <a:latin typeface="Arial"/>
                <a:ea typeface="Arial"/>
                <a:hlinkClick r:id="rId1"/>
              </a:rPr>
              <a:t>http://npra.moh.gov.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2D1B-37DE-4678-9924-98F0FB703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 Poin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7720" y="1638360"/>
            <a:ext cx="64026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Oil from the seeds of evening primrose plant and contains 8 - 10% gamma-linolenic acid (G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chrane systematic review - EPO did not show significant differences in improvement of symptoms and QoL compared with placebo in AE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92. Bamford JT, et al. Cochrane Database Syst Rev. 2013;(4):CD004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A4C3-5607-4E0F-AEBD-4246EDA55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ing Primrose Oil (EPO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21" name="Content Placeholder 4" descr="common-evening-primrose-400x600.jpg"/>
          <p:cNvPicPr/>
          <p:nvPr/>
        </p:nvPicPr>
        <p:blipFill>
          <a:blip r:embed="rId1"/>
          <a:stretch/>
        </p:blipFill>
        <p:spPr>
          <a:xfrm>
            <a:off x="8035920" y="1638360"/>
            <a:ext cx="301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7720" y="1638360"/>
            <a:ext cx="64026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eeds of </a:t>
            </a:r>
            <a:r>
              <a:rPr b="0" i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orago officinalis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and contains at least 23% G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chrane systematic review - no significant differences in improvement of symptoms in AE with borage oil 1500 mg twice a day compared with placebo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048F-E366-491A-8331-65CD0B80B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age Oi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26" name="Content Placeholder 4" descr="borago_officinalis_01.jpg"/>
          <p:cNvPicPr/>
          <p:nvPr/>
        </p:nvPicPr>
        <p:blipFill>
          <a:blip r:embed="rId1"/>
          <a:stretch/>
        </p:blipFill>
        <p:spPr>
          <a:xfrm>
            <a:off x="7873920" y="1625760"/>
            <a:ext cx="321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Dr. Mohd. Aminuddin</cp:lastModifiedBy>
  <dcterms:modified xsi:type="dcterms:W3CDTF">2019-03-22T01:26:12Z</dcterms:modified>
  <cp:revision>163</cp:revision>
  <dc:subject/>
  <dc:title>PowerPoint Presentation</dc:title>
</cp:coreProperties>
</file>