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7B0C-573E-48E7-8065-7FCCD773E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D3EB-97D0-4C27-8DDF-CFC743E40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FA39-C134-4046-A885-298FF1BE1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C037-B8D8-473B-BAB9-B4E433727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5E1D-5D26-4495-8F3F-88305B674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8D4A-BC08-4A87-A015-5EFC9915A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2454-BB8A-4615-911F-B847E8FB1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BFEE-9121-41D9-AAD6-5A49A8AB8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73BB-0BB2-4821-8B02-0DD26A351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6BC9-E28F-4BC3-AA7C-B2750D14A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5022-EB48-4BF5-8EF7-D9EA974E5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425-8F0E-41EE-B01A-08B94572D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628-1561-499B-BC34-C4B7B4685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4440-1921-4448-AA54-AFFFB9DF9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7E07-F6B5-4536-9FC3-0A7AA1BAF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5504-3066-4615-A8F2-15880149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CE3A-CA9D-4C35-A9A6-19697D432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009-21DB-4FDF-8F5A-D4547752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DE6-6F03-415F-A524-22F3569B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C77-C186-4E1C-A798-D4F2236E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32C-7D66-4158-A26B-5E1FD843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CEAC-4596-463B-BC4B-9013AAB2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5B42-4DEC-468F-AA9F-717B9890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45D-E4F5-4CDC-8389-F704EFA3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D53C-6676-4A6F-A479-0E685EAD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4F28-301A-4EB2-8A9E-02821928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19C-E0CB-44BE-99EE-E366B72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3AFC-B432-4972-9F79-55B095A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C3E-7169-447F-BBA8-5BFC3C33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2A1-AF01-410C-9367-1576F56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7573-47C5-4A03-95B2-FB47496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6C08-FD2A-430D-B3DD-0BEEC51E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84BA-2D26-4752-BAAF-2800D5B4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3655-63E8-4C2E-A3BC-33539490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D1D-E586-451D-B7C0-3349168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863-47FD-40D5-A651-FA0A769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C80-30DF-4381-9917-C1C81852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210-BB73-4009-B39A-DD26D1D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4F8-611F-4CB3-845A-F8EA77F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009-E55B-487F-9D36-1789ED2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E9F-0F7A-4A0F-9EEC-397EB6E1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7E84-477B-48AC-8AE8-8771A01A4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791F-F0E8-41F3-9FC0-F56FF9E3D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43A1-2A6A-40DE-8CBE-3E16317E9A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F92F-91A7-4B92-98F3-290776315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ff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ff3399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596360" y="690480"/>
            <a:ext cx="3773160" cy="5792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038240" y="1959120"/>
            <a:ext cx="78883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Atopic Ecz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Aggravating Factors &amp; Co-morbidities of 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Tarita Ta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r &amp; Consultant Dermatolog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i Teknologi M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iti Shafiatun Moh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inik Kesihatan Che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Wong Ping F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Klinik Kesihatan Cheras Ba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House dust worsens itch symptom in AE;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severity is associated with indoor house dust mites level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Grass pollen was found not to worsen itch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Unfamiliar pets (not own pets) worsens itch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. Langan SM, et al. Br J Dermatol. 2009;161(3):640-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. Kim J, et al. J Korean Med Sci. 2013;28(1):74-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2E9-8A3E-46D9-BE90-591C8669A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Irritan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Nylon or wool clothing worsens itch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rritants e.g. soaps, detergents, disinfectants and many chemical reagents may worsen AE f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Chemicals (e.g. shampoo exposure) and natural irritants (e.g. sweat) worsen itch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C1E-3302-4BE0-8F1A-C1B20AC1C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oallerg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8080" y="1525680"/>
            <a:ext cx="10515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Warm and high sun exposures are associated with poorly controlled disease. There is no association with humidity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re is a significantly increased mean daily AE symptoms after moving into a newly painted building with natural ventilation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Outdoor air pollution is significantly associated with AE symptom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. Sargen MR, et al. J Invest Dermatol. 2014;134(1):51-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. Kim EH, et al. PLoS One. 2015;10(3):e01195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 Kim YM, et al. PLoS One. 2017;12(4):e0175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47DB-B037-44AF-AEE4-C81BB65FA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al Facto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 influence of food allergy on the clinical course of AE remains unclear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 diagnosis of food allergy should be considered in children with AE who have reacted previously to a food with immediate symptoms, or in infants and young children with moderate to severe AE that has not been controlled by optimum management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31. Eichenfield LF, et al. J Am Acad Dermatol. 2014;71(1):116-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32. National Collaborating Centre for Women's and Children's Health (UK). Atopic Eczema in Children: Management of Atop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Eczema in Children from Birth up to the Age of 12 Years. London: RCOG Press;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0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6251-D8DE-4AB5-9923-D3B5F8502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 degree of </a:t>
            </a:r>
            <a:r>
              <a:rPr b="0" i="1" lang="en-MY" sz="3200" spc="-1" strike="noStrike">
                <a:solidFill>
                  <a:srgbClr val="000000"/>
                </a:solidFill>
                <a:latin typeface="Arial"/>
              </a:rPr>
              <a:t>S. aureus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lonisation tends to increase the AE severity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 systematic review showed that the current regular childhood vaccination did not increase the risk of atopic disorder including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33. Wollenberg A,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. Clin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Rev Allergy Immunol. 2011;41(3):272-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34. Jagelavičienė A,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. Acta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edica Lituanica. 2014;21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67FF-97BC-4855-8476-83D8F92D4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bial Colonisation/Infec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Pregnancy has an impact on women with history of AE and more than 50% deteriorate. About 10% flare during post-partum period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re is no good quality evidence to show that stress aggravates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35. Kemmett D, et al. Br J Dermatol. 1991;125(1):59-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1817-6569-4FAA-9315-633DB1B57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Facto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8080" y="1812600"/>
            <a:ext cx="10515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Calibri"/>
                <a:ea typeface="DengXian"/>
              </a:rPr>
              <a:t>Evaluation of aggravating factors and comorbidity are important to assist in management of 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0B1D-CF93-4C58-A2F1-42DC33C73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 Home Mess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8E4A-771E-4BCF-AAFB-9A2BF1900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o identify the aggravating factors and comorbidity  conditions with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B0B6-E434-4AAD-AFD4-4DE9A2997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ing Objecti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1287000"/>
            <a:ext cx="10515600" cy="54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AE often extends beyond the sk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co-morbidities are found to be associated with 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kin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Eczematous skin is prone to secondary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d risk of developing impetigo (Staphylococcal, Streptococcal infection) with OR  1.80 (95% CI 1.16 to 2.80) compared with non-AE children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Eczema herpeticum should be suspected in patients with rapidly  deteriorating A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3. Hayashida S, et al. J Dermatol Sci. 2010;60(3):173-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4. Scottish Intercollegiate Guidelines Network. Management of atopic eczema in primary care. Edinburgh: SIGN;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5940-DC32-4896-A4B8-0D9BA24B9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F1EB-518B-419C-876F-842D1C82C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1851120"/>
            <a:ext cx="10515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t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1 in 3 children with AE develop asthma at 6 years and old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ion with allergic rhinitis (OR=3.4, 95% CI 1.3 to 9.0) especially in the early-onset persistent AE patients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5. van der Hulst AE, et al. J Allergy Clin Immunol. 2007;120(3):565-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6. Carlsten C, et al. Ann Allergy Asthma Immunol. 2013;110(1):24-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6F02-89EA-4CA4-9D88-77E7EEC628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851120"/>
            <a:ext cx="10515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Dermatitis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E patients are clinically observed to be susceptible to develop acute CD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 meta-analysis showed no significant correlation between AE and contact sensitis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7. Herro EM, et al. J Clin Aesthet Dermatol. 2011;4(11):39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8. Hamann CR, et al. J Am Acad Dermatol. 2017;77(1):70-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1891-F80B-485E-9D69-F4A1D6470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536840"/>
            <a:ext cx="10515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Food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ion with food allergy (OR=13.4, 95% CI 2.9 to 61.4) especially in the early-onset persistent AE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a systematic review (low quality) on association of AE and food allergy in adolescence and adults population, the prevalence of allergy to wheat, egg, cow’s milk was 4.5%, 6.1% and 0.6% respectively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ocal data on food sensitisation in children with AE showed similar findings on egg, cow’s milk and peanu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19. Manam S, et al. Curr Opin Allergy Clin Immunol. 2014;14(5):423-4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20. Wee AL, et al. Food and aero sensitization pattern among atopic dermatitis children in Hospital Kual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Lumpur. Hospital Kuala Lumpur, 2015 (unpublished docu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4F0B-6998-4F99-8957-F994B6760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628640"/>
            <a:ext cx="10515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ardi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odest associations between severe AE and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ngina pectoris (RR=1.17, 95% CI 1.12 to 1.2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hypertension (RR=1.04, 95% CI 1.02 to 1.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peripheral arterial disease (RR=1.15, 95% CI 1.11 to 1.1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n increased risk of AE (compared to normal weight adults and children) in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overweight (OR=1.27, 95% CI 1.19 to 1.3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obese (OR=1.42, 95% CI 1.34 to 1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1. Standl M, et al. J Invest Dermatol. 2017;137(5):1074-10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2. Zhang A, et al. J Am Acad Dermatol. 2015;72(4):606-16.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E230-E15E-4BC9-B793-A591C1D8A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628640"/>
            <a:ext cx="10515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ical and Psychosocial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hildren with AE may demonstrate psychological and psychosocial dysfunc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n independent association with attention deficit hyperactivity disorder -OR=1.47, 95% CI 1.01 to 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Prevalence of schizophrenia in AE vs non AE: 1.2% vs 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Prevalence of affective disorders in AE vs non AE : 7.7% vs 4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valence of AE is increased with exposure to active and passive smoking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3. Schmitt J, et al. JAMA. 2009;301(7):724-7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4. Kantor R, et al. J Am Acad Dermatol. 2016;75(6):1119-1125.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8080" y="1638000"/>
            <a:ext cx="10515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gravating factors worsen flares in AE either independently or in comb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ggravating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eroaller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irri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vironment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bial colonisation/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ient factors (e.g. pregnanc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EB54-B92B-45AA-A143-DD8A6FD56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ravating Facto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Dr. Mohd. Aminuddin</cp:lastModifiedBy>
  <dcterms:modified xsi:type="dcterms:W3CDTF">2019-03-06T04:17:21Z</dcterms:modified>
  <cp:revision>137</cp:revision>
  <dc:subject/>
  <dc:title>PowerPoint Presentation</dc:title>
</cp:coreProperties>
</file>