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4E6A-0AB8-47B7-ACD3-051C8A668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F109-2D3C-48F3-A4B3-285F7EA3C1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FBBC-38CE-4D2B-86C0-3455C83AD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3A77-008A-4A0F-A5EB-A511B5447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B03F-FBCB-4975-83EB-4E93335F4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CFC1-DE8E-4FF9-AA6C-F523260E6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BF14-2C3D-4F35-9048-631E2EAB0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D91B-B02D-4F3A-9A36-203624319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C54E-3C03-4F53-82B3-9F069C702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3C4D-9767-40C5-A66B-086B798DE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EFC7-D2D1-4C90-B5EF-819F69333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002F-CB55-471B-9A2E-23755A485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D599-7CCC-488E-B4D5-AE4641C7A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4495-8AE9-4D0E-8317-052FF63C5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8526-AA84-481B-98CD-24B9CA629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C88A-F609-4517-9B50-A5FDF2F68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Diabetes in Pregn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0B5A-60CD-4803-80DF-A310D7198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810-E418-43EC-8BA2-722B7A7B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333-B656-4C32-A73F-66BCDBAA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E3D-AA76-406F-9022-DF266519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A54-5292-4343-89BD-568542DD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8159-65C9-41D9-AF47-E82398F9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96A8-E48E-49D0-B1B7-B0ED369B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36D6-3DDD-4CAD-9697-EF0F6EE1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1136-CD35-4473-9053-D3FD653E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E5DC-B2ED-4505-A2AC-F84E8818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5306-7CFC-4F06-AA68-C43565B0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3D27-A749-465B-9362-B91623DE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3F3-C282-4A8D-98C4-B8F89E14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C954-661A-4E52-BE8C-B6FD96EF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9C5A-C0F3-471B-BEC1-BC40D540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84E1-E00D-4B2B-ABDC-7750CAE7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2FFD-8D7E-43BD-9EA1-61206B59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F8CF-5B0A-48DE-A08F-71782944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7FD-16AB-42EB-8670-7328EB06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B4F-C092-4A56-8BC8-48DA23AE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760-F9ED-4A7D-9321-23C51F34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B48-433C-43B9-8F34-60877DFE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488-B050-43B0-990C-D46792FE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B85-665B-47CB-B853-0BBFACDC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D99-A61D-42F6-81DC-3C078558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3966-1B28-4FBD-905F-CE6F56A35D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00FF-4E73-4DEE-8721-4B15A03D3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7e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8D38-7277-4A37-918B-42A69758F8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A62B-F2A3-452B-93D1-51B78BECD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3"/>
          <p:cNvSpPr/>
          <p:nvPr/>
        </p:nvSpPr>
        <p:spPr>
          <a:xfrm flipV="1">
            <a:off x="-15480" y="0"/>
            <a:ext cx="7740720" cy="3610080"/>
          </a:xfrm>
          <a:prstGeom prst="rtTriangle">
            <a:avLst/>
          </a:prstGeom>
          <a:solidFill>
            <a:srgbClr val="ffccff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ight Triangle 4"/>
          <p:cNvSpPr/>
          <p:nvPr/>
        </p:nvSpPr>
        <p:spPr>
          <a:xfrm rot="10800000">
            <a:off x="4303800" y="-360"/>
            <a:ext cx="7888320" cy="5281560"/>
          </a:xfrm>
          <a:prstGeom prst="rtTriangle">
            <a:avLst/>
          </a:prstGeom>
          <a:solidFill>
            <a:srgbClr val="ff3399"/>
          </a:solidFill>
          <a:ln w="0">
            <a:noFill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7596360" y="690480"/>
            <a:ext cx="3773160" cy="5792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1038240" y="1959120"/>
            <a:ext cx="78883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of Core Train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G Management of Atopic Ecze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</a:rPr>
              <a:t>Aggravating Factors &amp; Co-morbidities of 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Tarita Tai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cturer &amp; Consultant Dermatolog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i Teknologi M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Siti Shafiatun Mohs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Medicine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linik Kesihatan Cher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Wong Ping Fo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Family Medicine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Klinik Kesihatan Cheras Ba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House dust worsens itch symptom in AE;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 severity is associated with indoor house dust mites level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Grass pollen was found not to worsen itch in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Unfamiliar pets (not own pets) worsens itch in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. Langan SM, et al. Br J Dermatol. 2009;161(3):640-6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. Kim J, et al. J Korean Med Sci. 2013;28(1):74-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D184-2577-4809-B6C2-AB15734E2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eroallerge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Nylon or wool clothing worsens itch in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Irritants e.g. soaps, detergents, disinfectants and many chemical reagents may worsen AE f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6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</a:rPr>
              <a:t>Chemicals (e.g. shampoo exposure) and natural irritants (e.g. sweat) worsen itch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6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6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276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CE9B-524F-4A4F-BC5B-45D345CD3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Irritant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8080" y="1525680"/>
            <a:ext cx="10515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Warm and high sun exposures are associated with poorly controlled disease. There is no association with humidity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There is a significantly increased mean daily AE symptoms after moving into a newly painted building with natural ventilation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Outdoor air pollution is significantly associated with AE symptoms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. Sargen MR, et al. J Invest Dermatol. 2014;134(1):51-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. Kim EH, et al. PLoS One. 2015;10(3):e01195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. Kim YM, et al. PLoS One. 2017;12(4):e01752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28CC-60F1-477B-A5DD-D569CAB98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vironmental Facto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The influence of food allergy on the clinical course of AE remains unclear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 diagnosis of food allergy should be considered in children with AE who have reacted previously to a food with immediate symptoms, or in infants and young children with moderate to severe AE that has not been controlled by optimum management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31. Eichenfield LF, et al. J Am Acad Dermatol. 2014;71(1):116-1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32. National Collaborating Centre for Women's and Children's Health (UK). Atopic Eczema in Children: Management of Atop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0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Eczema in Children from Birth up to the Age of 12 Years. London: RCOG Press;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0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E822-3468-4121-B610-1707736DD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8080" y="1825560"/>
            <a:ext cx="10515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The degree of </a:t>
            </a:r>
            <a:r>
              <a:rPr b="0" i="1" lang="en-MY" sz="3200" spc="-1" strike="noStrike">
                <a:solidFill>
                  <a:srgbClr val="000000"/>
                </a:solidFill>
                <a:latin typeface="Arial"/>
              </a:rPr>
              <a:t>S. aureus 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colonisation tends to increase the AE severity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A systematic review showed that the current regular childhood vaccination did not increase the risk of atopic disorder including AE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4</a:t>
            </a: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33. Wollenberg A,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. Clin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Rev Allergy Immunol. 2011;41(3):272-2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34. Jagelavičienė A,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. Acta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medica Lituanica. 2014;21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09FF-8848-46CC-8330-EBF00F14C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robial Colonisation/Infec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Pregnancy has an impact on women with history of AE and more than 50% deteriorate. About 10% flare during post-partum period.</a:t>
            </a:r>
            <a:r>
              <a:rPr b="0" lang="en-MY" sz="3200" spc="-1" strike="noStrike" baseline="30000">
                <a:solidFill>
                  <a:srgbClr val="00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</a:rPr>
              <a:t>There is no good quality evidence to show that stress aggravates 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</a:rPr>
              <a:t>35. Kemmett D, et al. Br J Dermatol. 1991;125(1):59-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1226-4531-42C1-87A7-EF039F699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Facto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8080" y="1812600"/>
            <a:ext cx="10515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DengXian"/>
              </a:rPr>
              <a:t>Evaluation of aggravating factors and comorbidity are important to assist in management of  A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1183-D007-4F4B-8F45-03977D4A6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 Home Messa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680" y="2206440"/>
            <a:ext cx="12079440" cy="2128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10D1-A1F2-4D51-916F-AE509DC7F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To identify the aggravating factors and comorbidity  conditions with 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F2F7-8424-44D8-8C67-830ACB51F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ing Objectiv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1287000"/>
            <a:ext cx="10515600" cy="54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AE often extends beyond the sk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Several co-morbidities are found to be associated with 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Skin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Eczematous skin is prone to secondary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d risk of developing impetigo (Staphylococcal, Streptococcal infection) with OR  1.80 (95% CI 1.16 to 2.80) compared with non-AE children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Eczema herpeticum should be suspected in patients with rapidly  deteriorating AE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3. Hayashida S, et al. J Dermatol Sci. 2010;60(3):173-1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4. Scottish Intercollegiate Guidelines Network. Management of atopic eczema in primary care. Edinburgh: SIGN;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8C63-354B-467B-A8C8-7D99CECF4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51C4-2529-4474-9659-29870115E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1851120"/>
            <a:ext cx="10515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t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1 in 3 children with AE develop asthma at 6 years and older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ssociation with allergic rhinitis (OR=3.4, 95% CI 1.3 to 9.0) especially in the early-onset persistent AE patients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5. van der Hulst AE, et al. J Allergy Clin Immunol. 2007;120(3):565-5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6. Carlsten C, et al. Ann Allergy Asthma Immunol. 2013;110(1):24-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r>
                        <a:rPr b="1" lang="en-MY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AFD5-4268-4A6B-89A8-39CA17C25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851120"/>
            <a:ext cx="10515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ontact Dermatitis (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E patients are clinically observed to be susceptible to develop acute CD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 meta-analysis showed no significant correlation between AE and contact sensitisa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7. Herro EM, et al. J Clin Aesthet Dermatol. 2011;4(11):39-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18. Hamann CR, et al. J Am Acad Dermatol. 2017;77(1):70-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r>
                        <a:rPr b="1" lang="en-MY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E8C0-46BC-43B5-AC6F-B031C90AD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536840"/>
            <a:ext cx="10515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Food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ssociation with food allergy (OR=13.4, 95% CI 2.9 to 61.4) especially in the early-onset persistent AE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In a systematic review (low quality) on association of AE and food allergy in adolescence and adults population, the prevalence of allergy to wheat, egg, cow’s milk was 4.5%, 6.1% and 0.6% respectively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Local data on food sensitisation in children with AE showed similar findings on egg, cow’s milk and peanut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19. Manam S, et al. Curr Opin Allergy Clin Immunol. 2014;14(5):423-4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20. Wee AL, et al. Food and aero sensitization pattern among atopic dermatitis children in Hospital Kual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MY" sz="1600" spc="-1" strike="noStrike">
                <a:solidFill>
                  <a:srgbClr val="000000"/>
                </a:solidFill>
                <a:latin typeface="Arial"/>
                <a:ea typeface="Arial"/>
              </a:rPr>
              <a:t>Lumpur. Hospital Kuala Lumpur, 2015 (unpublished docu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r>
                        <a:rPr b="1" lang="en-MY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5B4C-7F49-4B9F-903F-DA3C1905F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628640"/>
            <a:ext cx="10515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ardi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Modest associations between severe AE and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angina pectoris (RR=1.17, 95% CI 1.12 to 1.2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hypertension (RR=1.04, 95% CI 1.02 to 1.0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peripheral arterial disease (RR=1.15, 95% CI 1.11 to 1.1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An increased risk of AE (compared to normal weight adults and children) in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overweight (OR=1.27, 95% CI 1.19 to 1.3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obese (OR=1.42, 95% CI 1.34 to 1.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21. Standl M, et al. J Invest Dermatol. 2017;137(5):1074-10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22. Zhang A, et al. J Am Acad Dermatol. 2015;72(4):606-16.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90A2-5458-483E-89A1-FE4D17074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1628640"/>
            <a:ext cx="10515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000000"/>
                </a:solidFill>
                <a:latin typeface="Arial"/>
                <a:ea typeface="Arial"/>
              </a:rPr>
              <a:t>Psychological and Psychosocial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Children with AE may demonstrate psychological and psychosocial dysfunc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An independent association with attention deficit hyperactivity disorder -OR=1.47, 95% CI 1.01 to 2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Prevalence of schizophrenia in AE vs non AE: 1.2% vs 0.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"/>
              </a:rPr>
              <a:t>Prevalence of affective disorders in AE vs non AE : 7.7% vs 4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Prevalence of AE is increased with exposure to active and passive smoking</a:t>
            </a:r>
            <a:r>
              <a:rPr b="0" lang="en-MY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0" lang="en-MY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23. Schmitt J, et al. JAMA. 2009;301(7):724-7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Arial"/>
                <a:ea typeface="Arial"/>
              </a:rPr>
              <a:t>24. Kantor R, et al. J Am Acad Dermatol. 2016;75(6):1119-1125.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morbidities with AE</a:t>
                      </a:r>
                      <a:r>
                        <a:rPr b="1" lang="en-MY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8080" y="1638000"/>
            <a:ext cx="10515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gravating factors worsen flares in AE either independently or in comb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ggravating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eroaller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irri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vironmental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crobial colonisation/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6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ient factors (e.g. pregnanc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oT CPG Management of Atopic Ecz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D3C-9E00-4786-8610-A9A94D15A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680" y="25560"/>
          <a:ext cx="12060360" cy="1062000"/>
        </p:xfrm>
        <a:graphic>
          <a:graphicData uri="http://schemas.openxmlformats.org/drawingml/2006/table">
            <a:tbl>
              <a:tblPr/>
              <a:tblGrid>
                <a:gridCol w="12060360"/>
              </a:tblGrid>
              <a:tr h="1062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ravating Facto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3:30:34Z</dcterms:created>
  <dc:creator>Norasyikin A Wahab</dc:creator>
  <dc:description/>
  <dc:language>en-US</dc:language>
  <cp:lastModifiedBy>Windows User</cp:lastModifiedBy>
  <dcterms:modified xsi:type="dcterms:W3CDTF">2019-03-31T14:22:48Z</dcterms:modified>
  <cp:revision>138</cp:revision>
  <dc:subject/>
  <dc:title>PowerPoint Presentation</dc:title>
</cp:coreProperties>
</file>