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6.wmf" ContentType="image/x-wmf"/>
  <Override PartName="/ppt/media/image8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869A-BD99-473F-B446-5286A1FD5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6625-BF8A-4CE5-9A64-B86DBE6D5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F267-8B81-401B-99AD-D8AB9BE5A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7C03-7B61-4704-9969-C05FC9331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B2DF-F6B5-4AAC-B0DD-7DF1D9695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1FA2-6D9A-4791-9F18-E0A03BB75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EB74-FDB3-4CFC-81F4-12BE2CA49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188B-4D4B-4837-A752-BEDD3BE8A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E671-DDA1-4116-8C58-B435F2395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6B04-55E5-448B-B8C9-A0BFA1333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8799-40CC-465D-AB53-2E39544D9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C07C-F5E7-42EB-B952-7A1C3B454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157F-80AE-4702-987D-F88DD86AD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9433-F0B3-47FB-8796-42F92F6F0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2120-E8F9-4C43-B5E9-DE66FFD17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3E7E-A293-4EAF-A989-9C7C72260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7EEC-F85D-49AA-9715-1EC51F4B43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D27D-3F3B-413F-8C8B-6253C7CCB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00EF-484A-4DB4-94C4-96C5B4F70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3A58-7A07-496A-8699-150660B75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6B3C-97E9-44F5-BE68-B717D7596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1069-117C-4388-9D1D-3E6B9A996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823A-638C-46FD-90EA-C4342F68E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E3A6-5C62-47B1-AB3B-E40D4CC8B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8F9F-DC48-4606-BB38-7B668A20D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2AFB-2587-4C8A-8B53-C71088C3E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9669-6BA5-400F-9A7E-3A78F6681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1D51-42D5-4EFB-BCBA-315B4D4DC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CA00-9C73-4D44-BE25-7600FC0304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2C0A-5BC7-49FA-B7CC-E4B040D75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F8DA-A237-405C-98BD-415B6312F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A035-CF8A-4A26-A9BF-556B1DEE3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07E8-E371-48E7-B253-6FC86AFF0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05BF-D3F4-4DBB-8A47-BF9B3D09A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FAE1-25DB-46D0-A0CA-DFF97B15E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194F-98E6-423B-857C-670170AE8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FD06-87CA-47D8-AFEA-A7D65C851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1DCC-51FF-425F-9DC3-8D3FE3137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1FD5-4DBB-4A53-AE8F-CD38B2375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2954-C54E-4801-8BB3-C018F7F50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D03C-9F75-4669-AC4E-4DE2147EC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D2CA-8B73-4803-8016-C1CD77E99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4B2-26A2-4FBB-9ED4-277BFD56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37B-A77D-417D-B0EC-63D8102F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7C7-988F-40F7-8522-11E65854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044-DE8D-4CDD-AAB5-F7E3951C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151F-5CB1-40B4-ACCA-EE91FDED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629C-1835-4366-8D69-3CBB1F01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2C70-8ADB-4F1A-8F67-B9D3D9C6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0E86-877C-4E52-B368-F5AC21F8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EA71-F4DF-4066-8572-39F01FE4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4176-DBB8-49C6-B590-09A3F3CC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E18C-F218-44B0-87EA-7F535B68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FC5-19F9-466E-941F-443DBCF6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1DF2-8E1C-4E35-8958-769E6895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54D7-86D9-4420-9F8D-4FCF03E5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5E5A-67DA-4C0F-9677-7226B982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D07D-3A26-4128-B803-F3FF1E53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AA9C-3E1C-4F81-8314-44872426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9896-239F-4C5B-A935-37C603B2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E3E-1585-48D4-9B14-CD339489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6E9D-4554-4B94-B26E-C7FD3C8C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33E-8CCE-4256-98B6-F0DFD986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85A6-7919-4620-8ACA-48BEED9B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5C5-35BF-483D-9AA2-96BAF8FE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493-AEC4-4849-B2C3-3C30143F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103A-208C-46D1-B3F0-36C3657BFF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755C-B3A3-4D53-9E29-2A8E847F2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3261-F50D-480A-887C-2D0769F0A2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B7D7-1FD9-4920-9E88-8E842AF5D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ff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ff3399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7643880" y="690480"/>
            <a:ext cx="3773520" cy="5792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1465200" y="2671920"/>
            <a:ext cx="7888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of Core Train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G Management of Atopic Ecze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ic Treatment in 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Tan Wooi Chia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 of Department &amp; Dermatolog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pital Pulau Pin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Routine use of systemic antimicrobials among patients with non-infected AE is not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Systemic antimicrobial agents should be reserved for patients with signs of secondary infections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Refer to Malaysian National Antibiotic Guidelines 2014 for choices of antibiotic in skin and soft tissue in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26F5-FD76-41D4-859F-02F26EBDD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ic Antibiotics</a:t>
                      </a: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DD4C-60B1-41EC-A87A-5FCF6AA91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98600" y="2602080"/>
            <a:ext cx="11328120" cy="16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8080" y="1136160"/>
            <a:ext cx="10515600" cy="14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0240" indent="-2102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Arial"/>
                <a:ea typeface="Arial"/>
              </a:rPr>
              <a:t>Is a common immunosuppressive agent used in various inflammatory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Arial"/>
                <a:ea typeface="Arial"/>
              </a:rPr>
              <a:t>They have been shown to be rapidly effective, but had unfavourable long-term risk/benefit ratio.</a:t>
            </a:r>
            <a:r>
              <a:rPr b="0" lang="en-MY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MY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2. Ring J, et al. Allergy. 2011;66(6):713-7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E2D8-F7B8-426F-8BAF-4D6863E44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ic Corticosteroid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36" name="Picture 3" descr=""/>
          <p:cNvPicPr/>
          <p:nvPr/>
        </p:nvPicPr>
        <p:blipFill>
          <a:blip r:embed="rId1"/>
          <a:srcRect l="56875" t="0" r="0" b="0"/>
          <a:stretch/>
        </p:blipFill>
        <p:spPr>
          <a:xfrm rot="5400000">
            <a:off x="4672800" y="-114840"/>
            <a:ext cx="2781360" cy="11145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rcRect l="0" t="0" r="0" b="75279"/>
          <a:stretch/>
        </p:blipFill>
        <p:spPr>
          <a:xfrm>
            <a:off x="487440" y="2571840"/>
            <a:ext cx="1115064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8080" y="1600200"/>
            <a:ext cx="1051560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 a systematic review on children with severe AE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Combination of oral and intranasal beclomethasone diproprionate was more effective than placebo at 4 wee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ntranasal flunisolide was more effective than placebo at 2 wee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nother systematic review showed that prednisolone was less effective than cyclosporin A for adults with severe AE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Less stable remission (≥SCORAD 50) (p=0.031) at 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Higher incidence of relapse (p=0.04) at 12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5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5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53. Schmitt J, et al. J Eur Acad Dermatol Venereol. 2007;21(5):606-6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5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54. Roekevisch E, et al. J Allergy Clin Immunol. 2014;133(2):429-4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2F3B-FD5B-4474-AAC3-B12B13BE5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nes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8080" y="1136160"/>
            <a:ext cx="10515600" cy="14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150840" indent="-1508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Systematic reviews showed no serious adverse event when steroids were used for short-term (2 - 4 weeks)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3 -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Common adverse events were hypertension and exacerbations of AE after termination of treatment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3 -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3844-2935-4BA9-8B74-5AD05228F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de Effect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46" name="Picture 3" descr=""/>
          <p:cNvPicPr/>
          <p:nvPr/>
        </p:nvPicPr>
        <p:blipFill>
          <a:blip r:embed="rId1"/>
          <a:srcRect l="56875" t="0" r="0" b="0"/>
          <a:stretch/>
        </p:blipFill>
        <p:spPr>
          <a:xfrm rot="5400000">
            <a:off x="4672800" y="-519840"/>
            <a:ext cx="2781360" cy="11145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2"/>
          <a:srcRect l="0" t="9594" r="0" b="75279"/>
          <a:stretch/>
        </p:blipFill>
        <p:spPr>
          <a:xfrm>
            <a:off x="485640" y="2786040"/>
            <a:ext cx="1115064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8080" y="1409760"/>
            <a:ext cx="1051560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s a purine analogue that inhibits deoxyribonucleic acid (DNA)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t reduces inflammation by its antiproliferative effect on B-lymphocytes and T-lymphoc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Thiopurine methyltransferase (TPMT) is an enzyme required in the metabolism of A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TPMT levels or genotyping can help to identify patients with low or absent TPMT activity who are at increased risk for severe, life-threatening myelosuppression from A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2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  <a:ea typeface="Arial"/>
              </a:rPr>
              <a:t>Overall concordance between genotype and phenotype in healthy volunteers is 98.4%.</a:t>
            </a:r>
            <a:r>
              <a:rPr b="0" lang="en-MY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55. Schaeffeler E, et al. Pharmacogenetics. 2004;14(7):407-4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1DC5-4D3A-4EE4-97D9-3AC5CB527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athiopr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E4C4-CE77-45F2-8360-C8EB8C7EA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athioprine</a:t>
                      </a: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55" name="Picture 3" descr=""/>
          <p:cNvPicPr/>
          <p:nvPr/>
        </p:nvPicPr>
        <p:blipFill>
          <a:blip r:embed="rId1"/>
          <a:srcRect l="0" t="0" r="78992" b="0"/>
          <a:stretch/>
        </p:blipFill>
        <p:spPr>
          <a:xfrm rot="5400000">
            <a:off x="5421600" y="-3761280"/>
            <a:ext cx="1325520" cy="1142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rcRect l="48743" t="0" r="0" b="0"/>
          <a:stretch/>
        </p:blipFill>
        <p:spPr>
          <a:xfrm rot="5400000">
            <a:off x="4152600" y="-1153800"/>
            <a:ext cx="3886200" cy="113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8080" y="1600200"/>
            <a:ext cx="10515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ZA is more effective compared with placebo in the treatment of AE at 12 wee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mproved SASSAD (MD=5.4%, 95% CI 1.4 to 9.3)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mproved SASSAD ranged from 26% to 37%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Mean reduction of disease activity by 27%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mproved DLQI (MD=3.5, 95% CI 0.3 to 6.7)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When compared to MTX, AZA was equally effective in reduction of disease activity and improvement in QoL at 12 and 24 weeks in AE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56. Meggitt SJ, et al. Lancet. 2006;367(9513):839-8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D541-12A9-4609-9E63-A156A5D1E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nes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8080" y="1255680"/>
            <a:ext cx="1051560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46160" indent="-1461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dverse event was generally mild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4,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Common side effects observed were nausea, minor haematological and biochemical abnormalities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4,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6160" indent="-146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718E-EF7D-4CBA-9B08-E3E84687C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de Effect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65" name="Picture 3" descr=""/>
          <p:cNvPicPr/>
          <p:nvPr/>
        </p:nvPicPr>
        <p:blipFill>
          <a:blip r:embed="rId1"/>
          <a:srcRect l="11871" t="0" r="78992" b="0"/>
          <a:stretch/>
        </p:blipFill>
        <p:spPr>
          <a:xfrm rot="5400000">
            <a:off x="5811480" y="-2568600"/>
            <a:ext cx="576360" cy="11403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rcRect l="48743" t="0" r="0" b="0"/>
          <a:stretch/>
        </p:blipFill>
        <p:spPr>
          <a:xfrm rot="5400000">
            <a:off x="4486680" y="-686520"/>
            <a:ext cx="3232440" cy="11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2EA9-E4B6-4EAF-B840-E75578A40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ant Poin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590400" y="2838600"/>
            <a:ext cx="1106964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o learn about the indication of systemic therapy in 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o learn about the efficacy and safety of various types of systemic therapies in 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D632-4384-4ABA-B45D-4AE99DD16E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ing Objectiv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Cyclosporin A is an oral calcineurin inhibi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It reduces inflammation by immunosuppressive effect on T-lymphocytes and reduction of interleukin-2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Cyclosporin A is the only approved systemic treatment for adults with severe AE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F650-5C1A-4F8B-94FC-2A8FCC11E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closporin 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9A23-B7DB-4E77-9562-7F7FDBA0C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closporin A</a:t>
                      </a: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78" name="Picture 5" descr=""/>
          <p:cNvPicPr/>
          <p:nvPr/>
        </p:nvPicPr>
        <p:blipFill>
          <a:blip r:embed="rId1"/>
          <a:srcRect l="0" t="0" r="42685" b="0"/>
          <a:stretch/>
        </p:blipFill>
        <p:spPr>
          <a:xfrm rot="5400000">
            <a:off x="3621600" y="-2046960"/>
            <a:ext cx="4948200" cy="118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8080" y="15998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n 2 systematic reviews of moderate quality RCTs, cyclosporin A was more effective than placebo in moderate to severe AE in terms of: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3,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  <a:ea typeface="Arial"/>
              </a:rPr>
              <a:t>Reduction in SCORAD, Costa index, SASSAD after treatment with doses ranging between 2.5 and 5 mg/kg body weight for 4 - 52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  <a:ea typeface="Arial"/>
              </a:rPr>
              <a:t>Reduction in AE severity of about 50% (range 29 - 90%) at 6 -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  <a:ea typeface="Arial"/>
              </a:rPr>
              <a:t>Improvement in disease severity in both short- and long-term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  <a:ea typeface="Arial"/>
              </a:rPr>
              <a:t>Improvement in quality of life based on DLQ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High dose cyclosporin A (4 - 5 mg/kg) was more effective in reducing disease severity compared with low dose cyclosporin A (2.5 - 3 mg/kg) at 2 weeks (mean relative change of 40% vs 20%)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AEFF-F86D-4E4B-BCB9-3CB9934D8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nes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8080" y="1446120"/>
            <a:ext cx="10515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Relapse 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(increase in disease severity to &gt;75% of the patient’s baseline score) 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fter discontinuation of cyclosporin A was observed in 50% of patients within 2 weeks and up to 86% of patients within 6 weeks to 9 months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Continuous therapy (one year) was more effective than short intermittent therapy (12 weeks) of cyclosporin A in improvement of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Disease severity maintained beyond 8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5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QoL at 12 months (p=0·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5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55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57. Harper JI, et al. Br J Dermatol. 2000;142(1):52-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517D-EE3A-4FB5-A515-E631D5DBA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ness</a:t>
                      </a: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8080" y="1433160"/>
            <a:ext cx="105156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In head-to-head comparison with other immunosuppressive 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3535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cyclosporin A is more effective than prednisolone in adults with severe AE at 6 weeks and followed-up for another 12 weeks (p=0.031)</a:t>
            </a:r>
            <a:r>
              <a:rPr b="0" lang="en-MY" sz="2000" spc="-1" strike="noStrike" baseline="30000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3535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cyclosporin A and MMF are equally effective as maintenance treatment of AE at 10 weeks (MD=0.8, 95% CI -4.4 to 6.0)</a:t>
            </a:r>
            <a:r>
              <a:rPr b="0" lang="en-MY" sz="2000" spc="-1" strike="noStrike" baseline="30000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3535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cyclosporin A shows faster clinical improvement compared with enteric-coated mycophenolate sodium (EC-MPS) at 3 weeks (MD=6.6, 95% CI 1.5 to 11.7) and at 6 weeks (MD=7.1, 95% CI 2.1 to 12.2) in severe AE; however, clinical remission is longer in ECMPS after discontinuation of medication at 33 weeks</a:t>
            </a:r>
            <a:r>
              <a:rPr b="0" lang="en-MY" sz="2000" spc="-1" strike="noStrike" baseline="30000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3535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</a:rPr>
              <a:t>cyclosporin A and MTX are equally effective in reducing SCORAD in children with severe AE at 12 and 24 weeks</a:t>
            </a:r>
            <a:r>
              <a:rPr b="0" lang="en-MY" sz="2000" spc="-1" strike="noStrike" baseline="30000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3535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35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58. Haeck IM, et al. J Am Acad Dermatol. 2011;64(6):1074-108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35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59. El-Khalawany MA, et al. Eur J Pediatr. 2013;172(3):351-3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8F98-E190-48E4-A288-641E7E97A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ness</a:t>
                      </a: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8080" y="1979280"/>
            <a:ext cx="105156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dverse events reported are mild (57%), moderate (37%) and severe (6%) at 1-year treatment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Common adverse events are hypertension, gastrointestinal symptoms, hypertrichosis, fatigue, flu-like symptoms, headache, paraesthesia, haematological and biochemical abnormalities (increased creatinine level &gt;30% from baseline)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Severe adverse events include infections, abdominal pain, acute cholecystitis and basal cell carcinoma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7677-F0BD-4207-A926-BD5264A33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de Effect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8080" y="1255320"/>
            <a:ext cx="105156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MTX is an anti-folate metabol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hibits T-lymphocytes function by blocking the synthesis of DNA, ribonucleic acid (RNA) and p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296A-1126-4423-B36E-7BD863F70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trexat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99" name="Picture 3" descr=""/>
          <p:cNvPicPr/>
          <p:nvPr/>
        </p:nvPicPr>
        <p:blipFill>
          <a:blip r:embed="rId1"/>
          <a:srcRect l="0" t="9284" r="0" b="76183"/>
          <a:stretch/>
        </p:blipFill>
        <p:spPr>
          <a:xfrm>
            <a:off x="179280" y="2984400"/>
            <a:ext cx="11833200" cy="939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2"/>
          <a:srcRect l="0" t="57536" r="0" b="0"/>
          <a:stretch/>
        </p:blipFill>
        <p:spPr>
          <a:xfrm>
            <a:off x="179280" y="3911760"/>
            <a:ext cx="1183320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There is no retrievable placebo-controlled efficacy study for MT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 a systematic review of systemic therapies for management of AE, an RCT showed </a:t>
            </a:r>
            <a:r>
              <a:rPr b="1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MTX was as effective as AZA 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 reducing SCORAD at 12 and 24 weeks (p=0.89 and p=0.58 respectively) and improving QoL at 12 weeks (p=0.46)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MTX and cyclosporin A are equally effective 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 the reduction of SCORAD in children with severe AE at 12 and 24 weeks (p=0.93 and p=0.29 respectively)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FE24-0669-4ABF-A8E4-6574AA632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nes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8080" y="1255320"/>
            <a:ext cx="105156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Common adverse events observed in MTX are haematological abnormalities, gastrointestinal disturbances and inf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There is no severe and serious adverse ev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880D-AE76-4B1A-8AF9-D74A094D3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de Effect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209" name="Picture 3" descr=""/>
          <p:cNvPicPr/>
          <p:nvPr/>
        </p:nvPicPr>
        <p:blipFill>
          <a:blip r:embed="rId1"/>
          <a:srcRect l="0" t="9172" r="0" b="75678"/>
          <a:stretch/>
        </p:blipFill>
        <p:spPr>
          <a:xfrm>
            <a:off x="179280" y="2813040"/>
            <a:ext cx="11817360" cy="971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2"/>
          <a:srcRect l="57501" t="0" r="0" b="0"/>
          <a:stretch/>
        </p:blipFill>
        <p:spPr>
          <a:xfrm rot="5400000">
            <a:off x="4717800" y="-792000"/>
            <a:ext cx="2724120" cy="118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38080" y="1552680"/>
            <a:ext cx="10515600" cy="16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MMF and EC-MPS contain active metabolite mycophenolic acid (MP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MPA arrests the synthesis of DNA and RNA in B- and T-cell development via inhibition of inosine monophosphate dehydrogenase and therefore prevents immune cell prolif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44F8-DE92-4CF9-9389-09109CB75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0" y="0"/>
          <a:ext cx="12192120" cy="133668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336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cophenolate Mofetil and Enteric-coated Mycophenolate Sodiu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215" name="Picture 3" descr=""/>
          <p:cNvPicPr/>
          <p:nvPr/>
        </p:nvPicPr>
        <p:blipFill>
          <a:blip r:embed="rId1"/>
          <a:srcRect l="0" t="9328" r="0" b="41719"/>
          <a:stretch/>
        </p:blipFill>
        <p:spPr>
          <a:xfrm>
            <a:off x="190440" y="3328920"/>
            <a:ext cx="11754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8080" y="1600200"/>
            <a:ext cx="1051560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Are the following systemic therapies effective and safe in A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2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Systemic immunomodulators (e.g. systemic corticosteroids, methotrexate (MTX), azathioprine (AZA), cyclosporin (CsA), mycophenolate mofetil (MMF), leukotrine inhibitors, alitretonoin, interferon gam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2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Biolog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2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llergen specific immuno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2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ntimicrobials (e.g. antibiotics, antivirals, antifung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2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ntihista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2F4C-C205-4725-8A44-3B5049F00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here is no retrievable evidence comparing MMF to placeb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Systematic review showed that: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352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MMF was as effective as cyclosporin A 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 maintenance treatment of AE at 10 week (MD in SCORAD=0.8, 95% CI     -4.4 to 6.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352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EC-MPS had </a:t>
            </a:r>
            <a:r>
              <a:rPr b="1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longer clinical remission 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compared with cyclosporin A after discontinuation of medication at 33 we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68AE-EEBC-45BD-9BCB-E82250FB1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nes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8080" y="1362240"/>
            <a:ext cx="10515600" cy="16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Commonly reported adverse events are fatigue, headache, gastrointestinal disturbance, flu-like symptom and viral infection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FF62-8979-4984-AC6D-34B0C2C1D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de Effect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219240" y="3000240"/>
            <a:ext cx="117536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5A5E-3FB2-4D52-AFC5-F7CE6EA59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712800" y="2468520"/>
            <a:ext cx="108424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Biologics are therapeutic proteins specifically designed to block the activity of bioactive mediators of immune respon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AE is an inflammatory skin condition orchestrated by multiple cytokines, chemokines and immunoglobul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herefore, usage of biologics is a reasonable therapeutic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6BFF-3F93-430F-A133-65E1EAD9C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logic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52240" y="1825200"/>
            <a:ext cx="4684680" cy="25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Dupilumab is a monoclonal antibody that blocks interleukin-4 (IL-4) and interleukin-13 (IL-13) recep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BC99-74F5-4F60-9CBB-1C28A909D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piluma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5243400" y="1636560"/>
            <a:ext cx="6394680" cy="47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Infographic showing how dupilumab works"/>
          <p:cNvPicPr/>
          <p:nvPr/>
        </p:nvPicPr>
        <p:blipFill>
          <a:blip r:embed="rId1"/>
          <a:stretch/>
        </p:blipFill>
        <p:spPr>
          <a:xfrm>
            <a:off x="351000" y="138240"/>
            <a:ext cx="1149336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8080" y="1351080"/>
            <a:ext cx="10515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Dupilumab showed rapid improvement in AE severity compared with placebo in adults with moderate to severe A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It had higher proportion of patients with an IGA score of zero or one (clear or almost clear) or reduction from baseline of at least 2 points in the score and improvement in EASI &gt;75% at week 16 (p&lt; 0.001)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0, 61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 up to 52 weeks (p&lt;0.001)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60. Simpson EL, et al. N Engl J Med. 2016;375(24):2335-23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61. Blauvelt A, et al. Lancet. 2017;389(10086):2287-23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3EA2-626F-4038-B474-BCE6F399B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nes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Adverse events commonly reported are nasopharyngitis, headache and skin infection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0, 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Rare side effects include serum sickness-like reactions (fever, rash and joint pain and/or swell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4D8A-A7C6-4F43-B2DC-D821D0B10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de Effect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1B34-9697-4E49-B259-F82FD7423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ant Poin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549360" y="2746440"/>
            <a:ext cx="1121076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8080" y="1611000"/>
            <a:ext cx="105156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s a recombinant human monoclonal antibody that binds to free human IgE in the blood and IgE receptor on the surface of B-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n two RCTs, omalizumab showed </a:t>
            </a:r>
            <a:r>
              <a:rPr b="1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no significant difference 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n EASI and pruritic score at 20 weeks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2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 and comparable reduction in SCORAD at 24 weeks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3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 when compared with placebo in 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Minor adverse events with omalizumab are injection site reaction, mild infection, headache, vertigo, migraine and pruritus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62. Heil PM, et al. J Dtsch Dermatol Ges. 2010;8(12):990-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63. Iyengar SR, et al. Int Arch Allergy Immunol. 2013;162(1):89-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35BE-1CF2-4963-8B03-189F972A7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alizuma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8080" y="1136160"/>
            <a:ext cx="105156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Systemic therapy includ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  <a:ea typeface="Arial"/>
              </a:rPr>
              <a:t>Adjunctive treatment (e.g. antihistamines and systemic antibiotic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 treatment of AE (e.g. immunomodulating agent and biolog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 systemic treatments should be used only in severe cases of AE in patients where other management options have failed (uncontrolled after optimisation of topical treatment and/or phototherapy) or are not appropriate, and where the AE has a significant impact on quality of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mmunomodulating agents have significant side-effects and cumulative tox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All patient for specific systemic therapy need to have a pre-treatment assessment including laboratory/imaging tests and regular monitoring for side effects/tox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  <a:ea typeface="Arial"/>
              </a:rPr>
              <a:t>Pre-treatment  assessment: to identify risk of developing tox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  <a:ea typeface="Arial"/>
              </a:rPr>
              <a:t>Baseline laboratory/imaging tests regularly: to monitor side effects/tox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B924-1222-46B7-98AD-21E574C01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ic Therap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Infliximab is a chimeric monoclonal antibody that works against Tumour Necrosis Factor Alpha (TNF-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here is </a:t>
            </a:r>
            <a:r>
              <a:rPr b="1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no strong retrievable evidence 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on the effectiveness of infliximab in AE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FEB6-BF43-4170-B358-285624E93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lixima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A systematic review showed IVIG was </a:t>
            </a:r>
            <a:r>
              <a:rPr b="1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less effective 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in reduction of SCORAD at 12 weeks compared with placebo and cyclosporin A in AE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Most common adverse effects reported are headache, nausea, vomiting and low-grade fever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hey are transient and self-limiting, and usually happen during the first few hours after injection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7A3B-08EA-4431-AA24-4F8BD97CE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ravenous Immunoglobulin (IVIG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Arial"/>
              </a:rPr>
              <a:t>Leukotriene Antag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MY" sz="2800" spc="-1" strike="noStrike">
                <a:solidFill>
                  <a:srgbClr val="000000"/>
                </a:solidFill>
                <a:latin typeface="Arial"/>
              </a:rPr>
              <a:t>no significant difference 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in reduction of SASSAD in AE between montelukast and placebo at 8 weeks follow-up (MD=0.35, 95% CI -6.1 to 6.8)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Arial"/>
              </a:rPr>
              <a:t>Interferon Ga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MY" sz="2800" spc="-1" strike="noStrike">
                <a:solidFill>
                  <a:srgbClr val="000000"/>
                </a:solidFill>
                <a:latin typeface="Arial"/>
              </a:rPr>
              <a:t>no strong retrievable evidence 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on the effectiveness of IFN-γ in AE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7B7B-62E9-41C4-A740-3236EE68B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Systemic Agent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8080" y="1115640"/>
            <a:ext cx="10515600" cy="56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Systemic immunomodulators may be used in the treatment of severe AE after optimisation of topical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Pre-treatment screening with blood investigations and chest x-ray should be done before initiation of systemic immunomodulators. Regular monitoring of side effects with FBC, LFT and renal profile should be done after initi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Dupilumab is the biologic of choice for severe AE. There is no strong evidence of the effectiveness of other biologic treat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ntihistamines should not be used as monotherapy for A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Systemic antibiotics may be considered when there is an infection in AE pati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93CC-B55D-4009-9120-4F7ACC6A2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 Home Messag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86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D5B8-3ECB-41B7-B957-2A1B42D6D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 rot="5400000">
            <a:off x="2976840" y="-2278800"/>
            <a:ext cx="6288120" cy="11433240"/>
          </a:xfrm>
          <a:prstGeom prst="rect">
            <a:avLst/>
          </a:prstGeom>
          <a:ln w="0">
            <a:noFill/>
          </a:ln>
        </p:spPr>
      </p:pic>
      <p:sp>
        <p:nvSpPr>
          <p:cNvPr id="106" name="Arrow: Right 9"/>
          <p:cNvSpPr/>
          <p:nvPr/>
        </p:nvSpPr>
        <p:spPr>
          <a:xfrm rot="12958800">
            <a:off x="4406040" y="1333080"/>
            <a:ext cx="986040" cy="42696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rrow: Right 10"/>
          <p:cNvSpPr/>
          <p:nvPr/>
        </p:nvSpPr>
        <p:spPr>
          <a:xfrm rot="2399400">
            <a:off x="8754840" y="1814400"/>
            <a:ext cx="985680" cy="427320"/>
          </a:xfrm>
          <a:prstGeom prst="rightArrow">
            <a:avLst>
              <a:gd name="adj1" fmla="val 50000"/>
              <a:gd name="adj2" fmla="val 49956"/>
            </a:avLst>
          </a:prstGeom>
          <a:solidFill>
            <a:srgbClr val="ff000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8080" y="1469880"/>
            <a:ext cx="10515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Commonly used immunomodulating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352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Systemic Corticostero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352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Cyclospori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352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Methotrexate (MT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352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Azathioprine (A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352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Mycophenolate mofetil (M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352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ntravenous immunoglobulin (IVI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352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nterferon gamma (IFN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For further information on recommended medication dosing, side effects and contraindications for commonly used medications in AE, refer to </a:t>
            </a:r>
            <a:r>
              <a:rPr b="1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ppendix 11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0F7C-4CE9-460F-84DD-353438C46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ic Therapy</a:t>
                      </a: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8080" y="1220760"/>
            <a:ext cx="1051560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tch is a common symptom in AE and antihistamines are frequently prescribed to reliev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Based on a Cochrane systematic review, there was no high-level evidence to support the use of antihistamines as monotherapy in AE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Antihistamines should not substitute topical therapy in the management of AE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n AE patients with sleep disturbance due to itch, sedating antihistamines should be considered as a short-term measure at bedtime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4,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n the absence of urticaria and other atopic conditions, non-sedating antihistamines are not recommended as a treatment for AE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14. Scottish Intercollegiate Guidelines Network. Management of atopic  eczema in primary care. Edinburgh: SIGN;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31. Eichenfield LF, et al. J Am Acad Dermatol. 2014;71(1):116-1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50. Apfelbacher CJ, et al. Cochrane Database Syst Rev. 2013; (2):CD00777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51. Sidbury Ra, et al. J Am Acad Dermatol. 2014;71(2):327-3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C8B1-6D54-4463-8B99-6E6047172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histamin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709F-7D0B-475D-9B9F-019303DBB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628560" y="2570040"/>
            <a:ext cx="1099512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8080" y="1208160"/>
            <a:ext cx="1051560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Staphylococcus aureus 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colonisation of the skin in patients with moderate to severe AE is comm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The degree of colonisation significantly correlates with AE clinical severity and disease exacerb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Anti-staphylococcal treatment is widely practised in the management of 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n a Cochrane systematic review, oral antibiotics showed </a:t>
            </a:r>
            <a:r>
              <a:rPr b="1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no long-term benefits in patients with non-infected AE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. Improvement in global outcome was observed among those treated with flucloxacillin at day 28 (RR=2.49, 95% CI 1.27 to 4.89), but no further improvement at day 56 post-treatment (MD= -0.10, 95% CI -0.59 to 0.39)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66. Birnie AJ, et al. Cochrane Database Syst Rev. 2008;(3):CD0038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ED35-988A-4CB5-9281-08309213E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0"/>
          <a:ext cx="12192120" cy="1087560"/>
        </p:xfrm>
        <a:graphic>
          <a:graphicData uri="http://schemas.openxmlformats.org/drawingml/2006/table">
            <a:tbl>
              <a:tblPr/>
              <a:tblGrid>
                <a:gridCol w="12192120"/>
              </a:tblGrid>
              <a:tr h="108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ic Antibiotic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3:30:34Z</dcterms:created>
  <dc:creator>Norasyikin A Wahab</dc:creator>
  <dc:description/>
  <dc:language>en-US</dc:language>
  <cp:lastModifiedBy>Dr. Mohd. Aminuddin</cp:lastModifiedBy>
  <dcterms:modified xsi:type="dcterms:W3CDTF">2019-03-29T00:40:35Z</dcterms:modified>
  <cp:revision>203</cp:revision>
  <dc:subject/>
  <dc:title>PowerPoint Presentation</dc:title>
</cp:coreProperties>
</file>